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4.wmf" ContentType="image/x-wmf"/>
  <Override PartName="/ppt/media/image34.wmf" ContentType="image/x-wmf"/>
  <Override PartName="/ppt/media/image9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3.wmf" ContentType="image/x-wmf"/>
  <Override PartName="/ppt/media/image29.jpeg" ContentType="image/jpeg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png" ContentType="image/png"/>
  <Override PartName="/ppt/media/image16.wmf" ContentType="image/x-wmf"/>
  <Override PartName="/ppt/media/image17.wmf" ContentType="image/x-wmf"/>
  <Override PartName="/ppt/media/image1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  <p:sldId id="318" r:id="rId73"/>
    <p:sldId id="319" r:id="rId74"/>
    <p:sldId id="320" r:id="rId75"/>
    <p:sldId id="321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slide" Target="slides/slide63.xml"/><Relationship Id="rId74" Type="http://schemas.openxmlformats.org/officeDocument/2006/relationships/slide" Target="slides/slide64.xml"/><Relationship Id="rId75" Type="http://schemas.openxmlformats.org/officeDocument/2006/relationships/slide" Target="slides/slide65.xml"/><Relationship Id="rId76" Type="http://schemas.openxmlformats.org/officeDocument/2006/relationships/slide" Target="slides/slide66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9A6A-FC7D-4D05-A315-B8ABF6CEC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E82C-CEAC-4260-B3F7-D6042C64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7E681-9372-48D0-8F8B-2AD98F83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67F5D-3F96-4181-A1A3-F6A8388A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FEB2D-01B1-4D60-99F9-6ED1B8D1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93033-083B-41E5-AF4B-0D8A056C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2FBE9-EC85-4186-A034-297A07F4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0D5A4-BA19-4FF7-9CB9-5C01F625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9EC48-6425-47B9-A40E-A919C044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30D95-3310-4997-A829-95A15EE7F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EEF81-AD7B-4955-BA7A-39E492B7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6DDC-F0DC-4C6C-B59B-894D3C234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9236-F03D-4E85-AC39-077DB3772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351C-648D-40D5-A754-32E9B12A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3431-29C1-40A8-8A9A-DEB8E934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78EB-0214-4DC6-A156-63789AF8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6BC8-AE25-40FD-A6A8-85148FDF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12DD-DFC6-47E9-B4B0-AA2F8FA8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9DCB-9A66-44F3-9AB0-D75FD1C7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6737-C5A2-4964-A95C-B552CB12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77F6-1D9F-4D79-9CDD-0C8E8454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4C28-57D3-41C4-B352-3FA8DBC2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92B9-247F-4305-B6F6-76C8C279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C70B-425E-4770-AE77-FC125C2E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DA88-8053-4203-BB29-D0BCD745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9989-9ED2-48A9-B10E-A2470455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D1015-CC9B-4889-BEF8-22FF9F251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8E3B7-CE50-4C2D-AC66-2D739DE7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67265-94F6-40BA-B816-9C684088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6318C-5326-440C-8D34-A1299539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D95C7-7175-422D-A030-C66CC576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9BC6-2FBB-4912-99C6-3E719A3B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076CC-996A-453B-A5BB-F8FEC2C4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DEAF1-72DB-4289-8F70-E062F519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20E0E-E8D9-4B8B-8C77-EFEF4818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B87CB-FCEF-4A24-AB4C-DA28171D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49DC8-83FF-440B-9511-560B831C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EAB07-D5BE-4A78-BEE7-429B1532A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79C64-3DDF-4B88-8042-0846A017E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71115-FBF3-4EA0-973D-D15B2AF2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D4198-A819-4FCE-B694-3BC9E8FA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0939B-1637-4206-B96D-D8031690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7F69-8C57-4FCE-81D6-1CA2B821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C3BA4-5021-4550-8F2B-C377D333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88E38-3E37-46F5-ADD1-79B2D8CB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0F5B9-C56B-488F-B62C-E26BCE0B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B5A98-8FD7-43BE-8286-63428AA9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81901-B694-421A-A879-512B02A1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0DC43-E432-4DE4-932F-9915101B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34996-F1FC-4538-95D6-3570B187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134B6-C024-424D-B95B-A136271C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038F1-1824-489F-B383-8D64AE1D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9FC56-BBC6-4E9B-9882-5CEEC07A7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730B-AEF8-47FA-9985-F1B78D9C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A07D6-3BFB-41BA-83BD-CAE63A1D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1B191-55D9-435A-87CB-BE52AF0D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CB96B-F765-4640-B22D-1567FD01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B6BD8-81A7-46F8-BCE1-F6AF027E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12D3D-6504-46A9-A561-80D89041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A2A2B-C3B6-49F2-B35D-A830E12C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18DE7-B00D-43D0-AC3C-1BA73CB4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89265-7028-4E83-8151-4FA8BD71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AD5A1-F2EF-4EA2-A1F2-EE5FF400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6B745-A178-481A-B1D9-0C52CE21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5E25-137A-4FC7-8D9E-DFD504A6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F218E-6039-443F-A859-6134C6BF2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28E86-A9EF-40FA-B7E1-AE6EEEA6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76435-5620-447B-AA72-DE7DCAF1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7ADBF-286C-4F00-B740-2D735B96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1DFA7-3212-433A-8E1D-12233E28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DD12B-A668-4D29-BB22-3AA48102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5EFA6-1430-4A10-9CF7-89BCD254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17345-C405-4A86-BD4F-C5572589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B607F-A43F-433C-874E-C6CEC923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37C85-CBB8-4053-8E5B-5205E3C6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824B-CDD2-46FB-8526-C5D6297E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928F1-5D19-43C1-93F2-610AC92A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4BC37-CD15-49CD-8642-6FE9BF0D6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52994-8E25-41B6-8B69-C60150544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9CA59-4034-4DCF-BDD7-CB3B0342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6D657-023D-433C-93B5-7D0FA1B9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45104-CDB3-4FB2-8521-514F65CE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B99CE-F315-4983-B7B3-8C10D412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8B06B-C641-4EC0-838F-D2370612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94E27-0B71-40B4-A375-3B5DCEA5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E0986-3DD2-4C4E-A3D4-F17812A1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A340-5997-4AB4-BF49-C7AACE00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83AF6-DF25-4189-ACB8-90F8A3C1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34E4C-CC45-4071-9D51-68A78150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0C41E-CEB7-4763-92F0-255FB220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4257A-B9C7-4385-8E97-EF48FDCA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29128-3B4B-4B57-966C-AE8B7307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6E1DE-D17F-4CAA-A6FD-A928BACCA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AC598-ED8E-43FD-9C98-3A4F9BFE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0AF49-9CCA-48E4-950C-E20B89A2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AEC8E-4A86-4E1F-8801-9AEEA4C8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95799-7146-463E-9357-9D959AC4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9AEC-CF3D-4F57-BC3C-167914B3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CFAF3-5337-438C-BE2C-D85CC156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9ACAD-129D-42EB-8FDD-A88FB530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3FFF2-3B4B-448C-8C1A-24CF2509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E7EF1-89FD-4F25-B792-2E2E59AB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E7D69-E993-4D25-B1E0-84D79D4F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0CACF-D0D4-48E3-9EC6-B7B1AE086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4AF7B-7469-4F12-A2C7-8C4D94C98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6366C-D844-4393-8EC4-4D72AAF63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4FE52-2F2C-4705-9E31-AC0F5A91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D83BC-6509-4C1F-9BC0-BD4E2122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A972-56D7-44B6-8DA2-DC8FF4FE2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3446-4D1F-47FE-BFC5-AB28C7E7A26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6192-2D66-4E6F-A9B2-9E4DC550AEC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30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8D9D-C606-49EB-B9D2-D071AC401E3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06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0FA9-6551-4F43-A674-76DB7285674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8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8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9abe9d"/>
                </a:gs>
                <a:gs pos="100000">
                  <a:srgbClr val="90b2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9abe9d"/>
                </a:gs>
                <a:gs pos="100000">
                  <a:srgbClr val="90b2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1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51E1-17B2-4A26-A9A9-C0A4FE16BAD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5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6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9abe9d"/>
                </a:gs>
                <a:gs pos="100000">
                  <a:srgbClr val="90b2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9abe9d"/>
                </a:gs>
                <a:gs pos="100000">
                  <a:srgbClr val="90b2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8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6514-957A-43CD-A7E3-8A3BCFC688D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36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1060-CC5F-43AB-ABA9-AF986DC035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86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dt" idx="25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ftr" idx="26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1364-90A2-4F59-8A5D-2C4D217FB2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6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8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1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6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7.wmf"/><Relationship Id="rId4" Type="http://schemas.openxmlformats.org/officeDocument/2006/relationships/image" Target="../media/image23.wmf"/><Relationship Id="rId5" Type="http://schemas.openxmlformats.org/officeDocument/2006/relationships/image" Target="../media/image28.wmf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6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slideLayout" Target="../slideLayouts/slideLayout6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6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6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6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6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6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БЕЛОК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арый миф развенч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Состав аминокисло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равнивая состав аминокислот, содержащихся в одном конкретном виде животных продуктов (например говядине) с набором аминокислот в одном растительном продукте (овсяные крупы) мы увидим, что состав аминокислот в мясе больше соответствует потребностям организма…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457200" y="5556240"/>
            <a:ext cx="1603440" cy="99684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7467480" y="5473800"/>
            <a:ext cx="1371600" cy="11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Состав аминокисло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…но, набор аминокислот в вегетарианской диете больше соответствует стандартам Всемирной Организации Здравоохранения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ейл Нед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«Доказано наверняка», стр. 148, 1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80880" y="4681440"/>
            <a:ext cx="8229600" cy="1572120"/>
          </a:xfrm>
          <a:prstGeom prst="rect">
            <a:avLst/>
          </a:pr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ип диеты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отклонение от стандарта Роу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егетарианство                                            2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 вегетарианство                                       4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80880" y="46483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0880" y="62485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80880" y="46483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80880" y="51814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80880" y="57913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9880" y="46483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610480" y="46483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7467480" y="3124080"/>
            <a:ext cx="137160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ЛНОЦЕННЫЙ БЕЛ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ля образования качественного белка из аминокислот растительного происхождения наилучшими комбинациями являют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РЕХИ И ЗЕРНОВ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БОБОВЫЕ И ЗЕРНОВ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7238880" y="3124080"/>
            <a:ext cx="1457280" cy="153216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2"/>
          <a:stretch/>
        </p:blipFill>
        <p:spPr>
          <a:xfrm>
            <a:off x="7543800" y="5181480"/>
            <a:ext cx="1457280" cy="153216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3"/>
          <a:stretch/>
        </p:blipFill>
        <p:spPr>
          <a:xfrm flipH="1" rot="10800000">
            <a:off x="6324480" y="5486400"/>
            <a:ext cx="1224000" cy="76680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4"/>
          <a:stretch/>
        </p:blipFill>
        <p:spPr>
          <a:xfrm>
            <a:off x="6095880" y="3809880"/>
            <a:ext cx="99072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305920" cy="516420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6324480" y="5959440"/>
            <a:ext cx="1981440" cy="955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РЕКОМЕН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УЕМА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НОР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2120" y="2895480"/>
            <a:ext cx="1371600" cy="6314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ЛАДК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КАРТОФЕЛ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981080" y="2895480"/>
            <a:ext cx="1371600" cy="6314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ЕЧЁНЫЙ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КАРТОФЕЛ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276720" y="2895480"/>
            <a:ext cx="1066680" cy="6314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РИС (ц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114800" y="2895480"/>
            <a:ext cx="1447920" cy="307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ОМИД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486400" y="2895480"/>
            <a:ext cx="990720" cy="6314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ТЫК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248520" y="2895480"/>
            <a:ext cx="1523880" cy="8445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ШЕНИЧНАЯ МУ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38080" y="5943600"/>
            <a:ext cx="1295640" cy="6314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КУКУРУ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133720" y="5943600"/>
            <a:ext cx="1295280" cy="6314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ОВСЯ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ХЛОПЬ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352680" y="5943600"/>
            <a:ext cx="1067040" cy="6314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ФАСОЛ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БЕЛАЯ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267080" y="5943600"/>
            <a:ext cx="1371600" cy="6314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АСПАРАГУ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486400" y="5943600"/>
            <a:ext cx="1295280" cy="6314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БРОККО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696080" y="6400800"/>
            <a:ext cx="609840" cy="3049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ОДЕРЖАНИЕ ВОСЬМИ НЕЗАМЕНИМЫХАМИНОКИСЛО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696080" y="5707080"/>
            <a:ext cx="762120" cy="3049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924680" y="5715000"/>
            <a:ext cx="762120" cy="8445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Заявление диетолог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7010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 …когда люди употребляют несколько порций зерновых, бобовых и овощей в течение дня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получают достаточное количество калорий, тогда дефицит белка становится практически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возможным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»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учный диетолог Марк Месси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imple Soybean And Your Health” p.24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7062840" y="1447920"/>
            <a:ext cx="17762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личные источники рекомендуют от 30 до 60 гр. белка в ден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мирная Организация Здравоохранения – 0,75 гр. белка на 1 кг.  вес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title"/>
          </p:nvPr>
        </p:nvSpPr>
        <p:spPr>
          <a:xfrm>
            <a:off x="304560" y="8377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омендуемая дневная норма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6910560" y="1447920"/>
            <a:ext cx="17762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держание белка в различных продуктах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(гр)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0" y="685800"/>
            <a:ext cx="8610120" cy="6172200"/>
            <a:chOff x="0" y="685800"/>
            <a:chExt cx="8610120" cy="6172200"/>
          </a:xfrm>
        </p:grpSpPr>
        <p:grpSp>
          <p:nvGrpSpPr>
            <p:cNvPr id="640" name=""/>
            <p:cNvGrpSpPr/>
            <p:nvPr/>
          </p:nvGrpSpPr>
          <p:grpSpPr>
            <a:xfrm>
              <a:off x="8640" y="688320"/>
              <a:ext cx="8592120" cy="6166800"/>
              <a:chOff x="8640" y="688320"/>
              <a:chExt cx="8592120" cy="6166800"/>
            </a:xfrm>
          </p:grpSpPr>
          <p:grpSp>
            <p:nvGrpSpPr>
              <p:cNvPr id="641" name=""/>
              <p:cNvGrpSpPr/>
              <p:nvPr/>
            </p:nvGrpSpPr>
            <p:grpSpPr>
              <a:xfrm>
                <a:off x="8640" y="688320"/>
                <a:ext cx="4251960" cy="451080"/>
                <a:chOff x="8640" y="688320"/>
                <a:chExt cx="4251960" cy="45108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135000" y="688320"/>
                  <a:ext cx="3998880" cy="45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Продукт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640" y="688320"/>
                  <a:ext cx="4251960" cy="45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4260960" y="688320"/>
                <a:ext cx="1410840" cy="451080"/>
                <a:chOff x="4260960" y="688320"/>
                <a:chExt cx="1410840" cy="45108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4386600" y="688320"/>
                  <a:ext cx="1158480" cy="45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Мера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4260960" y="688320"/>
                  <a:ext cx="1410840" cy="45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5672160" y="688320"/>
                <a:ext cx="1627920" cy="451080"/>
                <a:chOff x="5672160" y="688320"/>
                <a:chExt cx="1627920" cy="45108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5797800" y="688320"/>
                  <a:ext cx="1376280" cy="45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Калори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и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672160" y="688320"/>
                  <a:ext cx="1627920" cy="45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7300800" y="688320"/>
                <a:ext cx="1299960" cy="451080"/>
                <a:chOff x="7300800" y="688320"/>
                <a:chExt cx="1299960" cy="45108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7427160" y="688320"/>
                  <a:ext cx="1046880" cy="45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Белок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7300800" y="688320"/>
                  <a:ext cx="1299960" cy="45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8640" y="1139400"/>
                <a:ext cx="4251960" cy="357120"/>
                <a:chOff x="8640" y="1139400"/>
                <a:chExt cx="4251960" cy="35712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135000" y="1139400"/>
                  <a:ext cx="39988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Соя 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(вареная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8640" y="1139400"/>
                  <a:ext cx="425196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4260960" y="1139400"/>
                <a:ext cx="1410840" cy="357120"/>
                <a:chOff x="4260960" y="1139400"/>
                <a:chExt cx="1410840" cy="35712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4386600" y="1139400"/>
                  <a:ext cx="11584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ст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4260960" y="1139400"/>
                  <a:ext cx="141084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"/>
              <p:cNvGrpSpPr/>
              <p:nvPr/>
            </p:nvGrpSpPr>
            <p:grpSpPr>
              <a:xfrm>
                <a:off x="5672160" y="1139400"/>
                <a:ext cx="1627920" cy="357120"/>
                <a:chOff x="5672160" y="1139400"/>
                <a:chExt cx="1627920" cy="35712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5797800" y="1139400"/>
                  <a:ext cx="13762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3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5672160" y="1139400"/>
                  <a:ext cx="162792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2" name=""/>
              <p:cNvGrpSpPr/>
              <p:nvPr/>
            </p:nvGrpSpPr>
            <p:grpSpPr>
              <a:xfrm>
                <a:off x="7300800" y="1139400"/>
                <a:ext cx="1299960" cy="357120"/>
                <a:chOff x="7300800" y="1139400"/>
                <a:chExt cx="1299960" cy="35712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7427160" y="1139400"/>
                  <a:ext cx="10468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7300800" y="1139400"/>
                  <a:ext cx="129996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8640" y="1496520"/>
                <a:ext cx="4251960" cy="357120"/>
                <a:chOff x="8640" y="1496520"/>
                <a:chExt cx="4251960" cy="35712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135000" y="1496520"/>
                  <a:ext cx="39988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Арахис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8640" y="1496520"/>
                  <a:ext cx="425196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8" name=""/>
              <p:cNvGrpSpPr/>
              <p:nvPr/>
            </p:nvGrpSpPr>
            <p:grpSpPr>
              <a:xfrm>
                <a:off x="4260960" y="1496520"/>
                <a:ext cx="1410840" cy="357120"/>
                <a:chOff x="4260960" y="1496520"/>
                <a:chExt cx="1410840" cy="357120"/>
              </a:xfrm>
            </p:grpSpPr>
            <p:sp>
              <p:nvSpPr>
                <p:cNvPr id="669" name=""/>
                <p:cNvSpPr/>
                <p:nvPr/>
              </p:nvSpPr>
              <p:spPr>
                <a:xfrm>
                  <a:off x="4386600" y="1496520"/>
                  <a:ext cx="11584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½ ст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4260960" y="1496520"/>
                  <a:ext cx="141084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5672160" y="1496520"/>
                <a:ext cx="1627920" cy="357120"/>
                <a:chOff x="5672160" y="1496520"/>
                <a:chExt cx="1627920" cy="35712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5797800" y="1496520"/>
                  <a:ext cx="13762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2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672160" y="1496520"/>
                  <a:ext cx="162792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7300800" y="1496520"/>
                <a:ext cx="1299960" cy="357120"/>
                <a:chOff x="7300800" y="1496520"/>
                <a:chExt cx="1299960" cy="357120"/>
              </a:xfrm>
            </p:grpSpPr>
            <p:sp>
              <p:nvSpPr>
                <p:cNvPr id="675" name=""/>
                <p:cNvSpPr/>
                <p:nvPr/>
              </p:nvSpPr>
              <p:spPr>
                <a:xfrm>
                  <a:off x="7427160" y="1496520"/>
                  <a:ext cx="10468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7300800" y="1496520"/>
                  <a:ext cx="129996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7" name=""/>
              <p:cNvGrpSpPr/>
              <p:nvPr/>
            </p:nvGrpSpPr>
            <p:grpSpPr>
              <a:xfrm>
                <a:off x="8640" y="1854000"/>
                <a:ext cx="4251960" cy="357120"/>
                <a:chOff x="8640" y="1854000"/>
                <a:chExt cx="4251960" cy="357120"/>
              </a:xfrm>
            </p:grpSpPr>
            <p:sp>
              <p:nvSpPr>
                <p:cNvPr id="678" name=""/>
                <p:cNvSpPr/>
                <p:nvPr/>
              </p:nvSpPr>
              <p:spPr>
                <a:xfrm>
                  <a:off x="135000" y="1854000"/>
                  <a:ext cx="39988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Грецкий орех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8640" y="1854000"/>
                  <a:ext cx="425196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0" name=""/>
              <p:cNvGrpSpPr/>
              <p:nvPr/>
            </p:nvGrpSpPr>
            <p:grpSpPr>
              <a:xfrm>
                <a:off x="4260960" y="1854000"/>
                <a:ext cx="1410840" cy="357120"/>
                <a:chOff x="4260960" y="1854000"/>
                <a:chExt cx="1410840" cy="35712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4386600" y="1854000"/>
                  <a:ext cx="11584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ст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4260960" y="1854000"/>
                  <a:ext cx="141084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5672160" y="1854000"/>
                <a:ext cx="1627920" cy="357120"/>
                <a:chOff x="5672160" y="1854000"/>
                <a:chExt cx="1627920" cy="35712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5797800" y="1854000"/>
                  <a:ext cx="13762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77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5672160" y="1854000"/>
                  <a:ext cx="162792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6" name=""/>
              <p:cNvGrpSpPr/>
              <p:nvPr/>
            </p:nvGrpSpPr>
            <p:grpSpPr>
              <a:xfrm>
                <a:off x="7300800" y="1854000"/>
                <a:ext cx="1299960" cy="357120"/>
                <a:chOff x="7300800" y="1854000"/>
                <a:chExt cx="1299960" cy="35712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7427160" y="1854000"/>
                  <a:ext cx="10468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7300800" y="1854000"/>
                  <a:ext cx="129996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9" name=""/>
              <p:cNvGrpSpPr/>
              <p:nvPr/>
            </p:nvGrpSpPr>
            <p:grpSpPr>
              <a:xfrm>
                <a:off x="8640" y="2211120"/>
                <a:ext cx="4251960" cy="357120"/>
                <a:chOff x="8640" y="2211120"/>
                <a:chExt cx="4251960" cy="35712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135000" y="2211120"/>
                  <a:ext cx="39988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Горох 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(пюре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8640" y="2211120"/>
                  <a:ext cx="425196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4260960" y="2211120"/>
                <a:ext cx="1410840" cy="357120"/>
                <a:chOff x="4260960" y="2211120"/>
                <a:chExt cx="1410840" cy="35712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4386600" y="2211120"/>
                  <a:ext cx="11584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ст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4260960" y="2211120"/>
                  <a:ext cx="141084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5672160" y="2211120"/>
                <a:ext cx="1627920" cy="357120"/>
                <a:chOff x="5672160" y="2211120"/>
                <a:chExt cx="1627920" cy="35712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5797800" y="2211120"/>
                  <a:ext cx="13762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30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672160" y="2211120"/>
                  <a:ext cx="162792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8" name=""/>
              <p:cNvGrpSpPr/>
              <p:nvPr/>
            </p:nvGrpSpPr>
            <p:grpSpPr>
              <a:xfrm>
                <a:off x="7300800" y="2211120"/>
                <a:ext cx="1299960" cy="357120"/>
                <a:chOff x="7300800" y="2211120"/>
                <a:chExt cx="1299960" cy="35712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7427160" y="2211120"/>
                  <a:ext cx="10468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7300800" y="2211120"/>
                  <a:ext cx="129996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" name=""/>
              <p:cNvGrpSpPr/>
              <p:nvPr/>
            </p:nvGrpSpPr>
            <p:grpSpPr>
              <a:xfrm>
                <a:off x="8640" y="2568240"/>
                <a:ext cx="4251960" cy="357120"/>
                <a:chOff x="8640" y="2568240"/>
                <a:chExt cx="4251960" cy="35712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135000" y="2568240"/>
                  <a:ext cx="39988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Фасоль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(вареная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8640" y="2568240"/>
                  <a:ext cx="425196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4" name=""/>
              <p:cNvGrpSpPr/>
              <p:nvPr/>
            </p:nvGrpSpPr>
            <p:grpSpPr>
              <a:xfrm>
                <a:off x="4260960" y="2568240"/>
                <a:ext cx="1410840" cy="357120"/>
                <a:chOff x="4260960" y="2568240"/>
                <a:chExt cx="1410840" cy="35712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4386600" y="2568240"/>
                  <a:ext cx="11584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ст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4260960" y="2568240"/>
                  <a:ext cx="141084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5672160" y="2568240"/>
                <a:ext cx="1627920" cy="357120"/>
                <a:chOff x="5672160" y="2568240"/>
                <a:chExt cx="1627920" cy="35712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5797800" y="2568240"/>
                  <a:ext cx="13762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2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5672160" y="2568240"/>
                  <a:ext cx="162792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0" name=""/>
              <p:cNvGrpSpPr/>
              <p:nvPr/>
            </p:nvGrpSpPr>
            <p:grpSpPr>
              <a:xfrm>
                <a:off x="7300800" y="2568240"/>
                <a:ext cx="1299960" cy="357120"/>
                <a:chOff x="7300800" y="2568240"/>
                <a:chExt cx="1299960" cy="35712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7427160" y="2568240"/>
                  <a:ext cx="10468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7300800" y="2568240"/>
                  <a:ext cx="129996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8640" y="2925360"/>
                <a:ext cx="4251960" cy="357120"/>
                <a:chOff x="8640" y="2925360"/>
                <a:chExt cx="4251960" cy="35712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135000" y="2925360"/>
                  <a:ext cx="39988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Молоко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8640" y="2925360"/>
                  <a:ext cx="425196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6" name=""/>
              <p:cNvGrpSpPr/>
              <p:nvPr/>
            </p:nvGrpSpPr>
            <p:grpSpPr>
              <a:xfrm>
                <a:off x="4260960" y="2925360"/>
                <a:ext cx="1410840" cy="357120"/>
                <a:chOff x="4260960" y="2925360"/>
                <a:chExt cx="1410840" cy="35712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4386600" y="2925360"/>
                  <a:ext cx="11584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ст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4260960" y="2925360"/>
                  <a:ext cx="141084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9" name=""/>
              <p:cNvGrpSpPr/>
              <p:nvPr/>
            </p:nvGrpSpPr>
            <p:grpSpPr>
              <a:xfrm>
                <a:off x="5672160" y="2925360"/>
                <a:ext cx="1627920" cy="357120"/>
                <a:chOff x="5672160" y="2925360"/>
                <a:chExt cx="1627920" cy="35712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5797800" y="2925360"/>
                  <a:ext cx="13762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5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5672160" y="2925360"/>
                  <a:ext cx="162792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2" name=""/>
              <p:cNvGrpSpPr/>
              <p:nvPr/>
            </p:nvGrpSpPr>
            <p:grpSpPr>
              <a:xfrm>
                <a:off x="7300800" y="2925360"/>
                <a:ext cx="1299960" cy="357120"/>
                <a:chOff x="7300800" y="2925360"/>
                <a:chExt cx="1299960" cy="357120"/>
              </a:xfrm>
            </p:grpSpPr>
            <p:sp>
              <p:nvSpPr>
                <p:cNvPr id="723" name=""/>
                <p:cNvSpPr/>
                <p:nvPr/>
              </p:nvSpPr>
              <p:spPr>
                <a:xfrm>
                  <a:off x="7427160" y="2925360"/>
                  <a:ext cx="10468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7300800" y="2925360"/>
                  <a:ext cx="129996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" name=""/>
              <p:cNvGrpSpPr/>
              <p:nvPr/>
            </p:nvGrpSpPr>
            <p:grpSpPr>
              <a:xfrm>
                <a:off x="8640" y="3282840"/>
                <a:ext cx="4251960" cy="357120"/>
                <a:chOff x="8640" y="3282840"/>
                <a:chExt cx="4251960" cy="35712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135000" y="3282840"/>
                  <a:ext cx="39988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Яйцо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8640" y="3282840"/>
                  <a:ext cx="425196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" name=""/>
              <p:cNvGrpSpPr/>
              <p:nvPr/>
            </p:nvGrpSpPr>
            <p:grpSpPr>
              <a:xfrm>
                <a:off x="4260960" y="3282840"/>
                <a:ext cx="1410840" cy="357120"/>
                <a:chOff x="4260960" y="3282840"/>
                <a:chExt cx="1410840" cy="357120"/>
              </a:xfrm>
            </p:grpSpPr>
            <p:sp>
              <p:nvSpPr>
                <p:cNvPr id="729" name=""/>
                <p:cNvSpPr/>
                <p:nvPr/>
              </p:nvSpPr>
              <p:spPr>
                <a:xfrm>
                  <a:off x="4386600" y="3282840"/>
                  <a:ext cx="11584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 шт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4260960" y="3282840"/>
                  <a:ext cx="141084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1" name=""/>
              <p:cNvGrpSpPr/>
              <p:nvPr/>
            </p:nvGrpSpPr>
            <p:grpSpPr>
              <a:xfrm>
                <a:off x="5672160" y="3282840"/>
                <a:ext cx="1627920" cy="357120"/>
                <a:chOff x="5672160" y="3282840"/>
                <a:chExt cx="1627920" cy="35712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5797800" y="3282840"/>
                  <a:ext cx="13762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7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5672160" y="3282840"/>
                  <a:ext cx="162792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4" name=""/>
              <p:cNvGrpSpPr/>
              <p:nvPr/>
            </p:nvGrpSpPr>
            <p:grpSpPr>
              <a:xfrm>
                <a:off x="7300800" y="3282840"/>
                <a:ext cx="1299960" cy="357120"/>
                <a:chOff x="7300800" y="3282840"/>
                <a:chExt cx="1299960" cy="357120"/>
              </a:xfrm>
            </p:grpSpPr>
            <p:sp>
              <p:nvSpPr>
                <p:cNvPr id="735" name=""/>
                <p:cNvSpPr/>
                <p:nvPr/>
              </p:nvSpPr>
              <p:spPr>
                <a:xfrm>
                  <a:off x="7427160" y="3282840"/>
                  <a:ext cx="10468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7300800" y="3282840"/>
                  <a:ext cx="129996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7" name=""/>
              <p:cNvGrpSpPr/>
              <p:nvPr/>
            </p:nvGrpSpPr>
            <p:grpSpPr>
              <a:xfrm>
                <a:off x="8640" y="3639960"/>
                <a:ext cx="4251960" cy="357120"/>
                <a:chOff x="8640" y="3639960"/>
                <a:chExt cx="4251960" cy="357120"/>
              </a:xfrm>
            </p:grpSpPr>
            <p:sp>
              <p:nvSpPr>
                <p:cNvPr id="738" name=""/>
                <p:cNvSpPr/>
                <p:nvPr/>
              </p:nvSpPr>
              <p:spPr>
                <a:xfrm>
                  <a:off x="135000" y="3639960"/>
                  <a:ext cx="39988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Семечки подсолнуха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8640" y="3639960"/>
                  <a:ext cx="425196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0" name=""/>
              <p:cNvGrpSpPr/>
              <p:nvPr/>
            </p:nvGrpSpPr>
            <p:grpSpPr>
              <a:xfrm>
                <a:off x="4260960" y="3639960"/>
                <a:ext cx="1410840" cy="357120"/>
                <a:chOff x="4260960" y="3639960"/>
                <a:chExt cx="1410840" cy="357120"/>
              </a:xfrm>
            </p:grpSpPr>
            <p:sp>
              <p:nvSpPr>
                <p:cNvPr id="741" name=""/>
                <p:cNvSpPr/>
                <p:nvPr/>
              </p:nvSpPr>
              <p:spPr>
                <a:xfrm>
                  <a:off x="4386600" y="3639960"/>
                  <a:ext cx="11584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0 гр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4260960" y="3639960"/>
                  <a:ext cx="141084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3" name=""/>
              <p:cNvGrpSpPr/>
              <p:nvPr/>
            </p:nvGrpSpPr>
            <p:grpSpPr>
              <a:xfrm>
                <a:off x="5672160" y="3639960"/>
                <a:ext cx="1627920" cy="357120"/>
                <a:chOff x="5672160" y="3639960"/>
                <a:chExt cx="1627920" cy="357120"/>
              </a:xfrm>
            </p:grpSpPr>
            <p:sp>
              <p:nvSpPr>
                <p:cNvPr id="744" name=""/>
                <p:cNvSpPr/>
                <p:nvPr/>
              </p:nvSpPr>
              <p:spPr>
                <a:xfrm>
                  <a:off x="5797800" y="3639960"/>
                  <a:ext cx="13762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6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5672160" y="3639960"/>
                  <a:ext cx="162792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6" name=""/>
              <p:cNvGrpSpPr/>
              <p:nvPr/>
            </p:nvGrpSpPr>
            <p:grpSpPr>
              <a:xfrm>
                <a:off x="7300800" y="3639960"/>
                <a:ext cx="1299960" cy="357120"/>
                <a:chOff x="7300800" y="3639960"/>
                <a:chExt cx="1299960" cy="357120"/>
              </a:xfrm>
            </p:grpSpPr>
            <p:sp>
              <p:nvSpPr>
                <p:cNvPr id="747" name=""/>
                <p:cNvSpPr/>
                <p:nvPr/>
              </p:nvSpPr>
              <p:spPr>
                <a:xfrm>
                  <a:off x="7427160" y="3639960"/>
                  <a:ext cx="10468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7300800" y="3639960"/>
                  <a:ext cx="129996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9" name=""/>
              <p:cNvGrpSpPr/>
              <p:nvPr/>
            </p:nvGrpSpPr>
            <p:grpSpPr>
              <a:xfrm>
                <a:off x="8640" y="3997080"/>
                <a:ext cx="4251960" cy="357120"/>
                <a:chOff x="8640" y="3997080"/>
                <a:chExt cx="4251960" cy="35712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135000" y="3997080"/>
                  <a:ext cx="39988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Брокколи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8640" y="3997080"/>
                  <a:ext cx="425196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2" name=""/>
              <p:cNvGrpSpPr/>
              <p:nvPr/>
            </p:nvGrpSpPr>
            <p:grpSpPr>
              <a:xfrm>
                <a:off x="4260960" y="3997080"/>
                <a:ext cx="1410840" cy="357120"/>
                <a:chOff x="4260960" y="3997080"/>
                <a:chExt cx="1410840" cy="35712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4386600" y="3997080"/>
                  <a:ext cx="11584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ст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4260960" y="3997080"/>
                  <a:ext cx="141084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5" name=""/>
              <p:cNvGrpSpPr/>
              <p:nvPr/>
            </p:nvGrpSpPr>
            <p:grpSpPr>
              <a:xfrm>
                <a:off x="5672160" y="3997080"/>
                <a:ext cx="1627920" cy="357120"/>
                <a:chOff x="5672160" y="3997080"/>
                <a:chExt cx="1627920" cy="357120"/>
              </a:xfrm>
            </p:grpSpPr>
            <p:sp>
              <p:nvSpPr>
                <p:cNvPr id="756" name=""/>
                <p:cNvSpPr/>
                <p:nvPr/>
              </p:nvSpPr>
              <p:spPr>
                <a:xfrm>
                  <a:off x="5797800" y="3997080"/>
                  <a:ext cx="13762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5672160" y="3997080"/>
                  <a:ext cx="162792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8" name=""/>
              <p:cNvGrpSpPr/>
              <p:nvPr/>
            </p:nvGrpSpPr>
            <p:grpSpPr>
              <a:xfrm>
                <a:off x="7300800" y="3997080"/>
                <a:ext cx="1299960" cy="357120"/>
                <a:chOff x="7300800" y="3997080"/>
                <a:chExt cx="1299960" cy="357120"/>
              </a:xfrm>
            </p:grpSpPr>
            <p:sp>
              <p:nvSpPr>
                <p:cNvPr id="759" name=""/>
                <p:cNvSpPr/>
                <p:nvPr/>
              </p:nvSpPr>
              <p:spPr>
                <a:xfrm>
                  <a:off x="7427160" y="3997080"/>
                  <a:ext cx="10468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7300800" y="3997080"/>
                  <a:ext cx="129996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1" name=""/>
              <p:cNvGrpSpPr/>
              <p:nvPr/>
            </p:nvGrpSpPr>
            <p:grpSpPr>
              <a:xfrm>
                <a:off x="8640" y="4354560"/>
                <a:ext cx="4251960" cy="357120"/>
                <a:chOff x="8640" y="4354560"/>
                <a:chExt cx="4251960" cy="357120"/>
              </a:xfrm>
            </p:grpSpPr>
            <p:sp>
              <p:nvSpPr>
                <p:cNvPr id="762" name=""/>
                <p:cNvSpPr/>
                <p:nvPr/>
              </p:nvSpPr>
              <p:spPr>
                <a:xfrm>
                  <a:off x="135000" y="4354560"/>
                  <a:ext cx="39988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Пшено 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(не вареное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8640" y="4354560"/>
                  <a:ext cx="425196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4" name=""/>
              <p:cNvGrpSpPr/>
              <p:nvPr/>
            </p:nvGrpSpPr>
            <p:grpSpPr>
              <a:xfrm>
                <a:off x="4260960" y="4354560"/>
                <a:ext cx="1410840" cy="357120"/>
                <a:chOff x="4260960" y="4354560"/>
                <a:chExt cx="1410840" cy="35712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4386600" y="4354560"/>
                  <a:ext cx="11584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¼ ст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4260960" y="4354560"/>
                  <a:ext cx="141084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7" name=""/>
              <p:cNvGrpSpPr/>
              <p:nvPr/>
            </p:nvGrpSpPr>
            <p:grpSpPr>
              <a:xfrm>
                <a:off x="5672160" y="4354560"/>
                <a:ext cx="1627920" cy="357120"/>
                <a:chOff x="5672160" y="4354560"/>
                <a:chExt cx="1627920" cy="35712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5797800" y="4354560"/>
                  <a:ext cx="13762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9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5672160" y="4354560"/>
                  <a:ext cx="162792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0" name=""/>
              <p:cNvGrpSpPr/>
              <p:nvPr/>
            </p:nvGrpSpPr>
            <p:grpSpPr>
              <a:xfrm>
                <a:off x="7300800" y="4354560"/>
                <a:ext cx="1299960" cy="357120"/>
                <a:chOff x="7300800" y="4354560"/>
                <a:chExt cx="1299960" cy="357120"/>
              </a:xfrm>
            </p:grpSpPr>
            <p:sp>
              <p:nvSpPr>
                <p:cNvPr id="771" name=""/>
                <p:cNvSpPr/>
                <p:nvPr/>
              </p:nvSpPr>
              <p:spPr>
                <a:xfrm>
                  <a:off x="7427160" y="4354560"/>
                  <a:ext cx="10468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,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7300800" y="4354560"/>
                  <a:ext cx="129996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3" name=""/>
              <p:cNvGrpSpPr/>
              <p:nvPr/>
            </p:nvGrpSpPr>
            <p:grpSpPr>
              <a:xfrm>
                <a:off x="8640" y="4711680"/>
                <a:ext cx="4251960" cy="357120"/>
                <a:chOff x="8640" y="4711680"/>
                <a:chExt cx="4251960" cy="357120"/>
              </a:xfrm>
            </p:grpSpPr>
            <p:sp>
              <p:nvSpPr>
                <p:cNvPr id="774" name=""/>
                <p:cNvSpPr/>
                <p:nvPr/>
              </p:nvSpPr>
              <p:spPr>
                <a:xfrm>
                  <a:off x="135000" y="4711680"/>
                  <a:ext cx="39988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Макароны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(вареные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8640" y="4711680"/>
                  <a:ext cx="425196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6" name=""/>
              <p:cNvGrpSpPr/>
              <p:nvPr/>
            </p:nvGrpSpPr>
            <p:grpSpPr>
              <a:xfrm>
                <a:off x="4260960" y="4711680"/>
                <a:ext cx="1410840" cy="357120"/>
                <a:chOff x="4260960" y="4711680"/>
                <a:chExt cx="1410840" cy="357120"/>
              </a:xfrm>
            </p:grpSpPr>
            <p:sp>
              <p:nvSpPr>
                <p:cNvPr id="777" name=""/>
                <p:cNvSpPr/>
                <p:nvPr/>
              </p:nvSpPr>
              <p:spPr>
                <a:xfrm>
                  <a:off x="4386600" y="4711680"/>
                  <a:ext cx="11584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 ст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4260960" y="4711680"/>
                  <a:ext cx="141084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9" name=""/>
              <p:cNvGrpSpPr/>
              <p:nvPr/>
            </p:nvGrpSpPr>
            <p:grpSpPr>
              <a:xfrm>
                <a:off x="5672160" y="4711680"/>
                <a:ext cx="1627920" cy="357120"/>
                <a:chOff x="5672160" y="4711680"/>
                <a:chExt cx="1627920" cy="35712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5797800" y="4711680"/>
                  <a:ext cx="13762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5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5672160" y="4711680"/>
                  <a:ext cx="162792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2" name=""/>
              <p:cNvGrpSpPr/>
              <p:nvPr/>
            </p:nvGrpSpPr>
            <p:grpSpPr>
              <a:xfrm>
                <a:off x="7300800" y="4711680"/>
                <a:ext cx="1299960" cy="357120"/>
                <a:chOff x="7300800" y="4711680"/>
                <a:chExt cx="1299960" cy="357120"/>
              </a:xfrm>
            </p:grpSpPr>
            <p:sp>
              <p:nvSpPr>
                <p:cNvPr id="783" name=""/>
                <p:cNvSpPr/>
                <p:nvPr/>
              </p:nvSpPr>
              <p:spPr>
                <a:xfrm>
                  <a:off x="7427160" y="4711680"/>
                  <a:ext cx="10468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7300800" y="4711680"/>
                  <a:ext cx="129996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5" name=""/>
              <p:cNvGrpSpPr/>
              <p:nvPr/>
            </p:nvGrpSpPr>
            <p:grpSpPr>
              <a:xfrm>
                <a:off x="8640" y="5069160"/>
                <a:ext cx="4251960" cy="357120"/>
                <a:chOff x="8640" y="5069160"/>
                <a:chExt cx="4251960" cy="35712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135000" y="5069160"/>
                  <a:ext cx="39988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Рис 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(вареный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8640" y="5069160"/>
                  <a:ext cx="425196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8" name=""/>
              <p:cNvGrpSpPr/>
              <p:nvPr/>
            </p:nvGrpSpPr>
            <p:grpSpPr>
              <a:xfrm>
                <a:off x="4260960" y="5069160"/>
                <a:ext cx="1410840" cy="357120"/>
                <a:chOff x="4260960" y="5069160"/>
                <a:chExt cx="1410840" cy="35712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4386600" y="5069160"/>
                  <a:ext cx="11584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 ст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4260960" y="5069160"/>
                  <a:ext cx="141084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1" name=""/>
              <p:cNvGrpSpPr/>
              <p:nvPr/>
            </p:nvGrpSpPr>
            <p:grpSpPr>
              <a:xfrm>
                <a:off x="5672160" y="5069160"/>
                <a:ext cx="1627920" cy="357120"/>
                <a:chOff x="5672160" y="5069160"/>
                <a:chExt cx="1627920" cy="357120"/>
              </a:xfrm>
            </p:grpSpPr>
            <p:sp>
              <p:nvSpPr>
                <p:cNvPr id="792" name=""/>
                <p:cNvSpPr/>
                <p:nvPr/>
              </p:nvSpPr>
              <p:spPr>
                <a:xfrm>
                  <a:off x="5797800" y="5069160"/>
                  <a:ext cx="13762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3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672160" y="5069160"/>
                  <a:ext cx="162792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4" name=""/>
              <p:cNvGrpSpPr/>
              <p:nvPr/>
            </p:nvGrpSpPr>
            <p:grpSpPr>
              <a:xfrm>
                <a:off x="7300800" y="5069160"/>
                <a:ext cx="1299960" cy="357120"/>
                <a:chOff x="7300800" y="5069160"/>
                <a:chExt cx="1299960" cy="35712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7427160" y="5069160"/>
                  <a:ext cx="10468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7300800" y="5069160"/>
                  <a:ext cx="129996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7" name=""/>
              <p:cNvGrpSpPr/>
              <p:nvPr/>
            </p:nvGrpSpPr>
            <p:grpSpPr>
              <a:xfrm>
                <a:off x="8640" y="5426280"/>
                <a:ext cx="4251960" cy="357120"/>
                <a:chOff x="8640" y="5426280"/>
                <a:chExt cx="4251960" cy="357120"/>
              </a:xfrm>
            </p:grpSpPr>
            <p:sp>
              <p:nvSpPr>
                <p:cNvPr id="798" name=""/>
                <p:cNvSpPr/>
                <p:nvPr/>
              </p:nvSpPr>
              <p:spPr>
                <a:xfrm>
                  <a:off x="135000" y="5426280"/>
                  <a:ext cx="39988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Картофель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8640" y="5426280"/>
                  <a:ext cx="425196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" name=""/>
              <p:cNvGrpSpPr/>
              <p:nvPr/>
            </p:nvGrpSpPr>
            <p:grpSpPr>
              <a:xfrm>
                <a:off x="4260960" y="5426280"/>
                <a:ext cx="1410840" cy="357120"/>
                <a:chOff x="4260960" y="5426280"/>
                <a:chExt cx="1410840" cy="35712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4386600" y="5426280"/>
                  <a:ext cx="11584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50 гр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4260960" y="5426280"/>
                  <a:ext cx="141084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3" name=""/>
              <p:cNvGrpSpPr/>
              <p:nvPr/>
            </p:nvGrpSpPr>
            <p:grpSpPr>
              <a:xfrm>
                <a:off x="5672160" y="5426280"/>
                <a:ext cx="1627920" cy="357120"/>
                <a:chOff x="5672160" y="5426280"/>
                <a:chExt cx="1627920" cy="357120"/>
              </a:xfrm>
            </p:grpSpPr>
            <p:sp>
              <p:nvSpPr>
                <p:cNvPr id="804" name=""/>
                <p:cNvSpPr/>
                <p:nvPr/>
              </p:nvSpPr>
              <p:spPr>
                <a:xfrm>
                  <a:off x="5797800" y="5426280"/>
                  <a:ext cx="13762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2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672160" y="5426280"/>
                  <a:ext cx="162792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6" name=""/>
              <p:cNvGrpSpPr/>
              <p:nvPr/>
            </p:nvGrpSpPr>
            <p:grpSpPr>
              <a:xfrm>
                <a:off x="7300800" y="5426280"/>
                <a:ext cx="1299960" cy="357120"/>
                <a:chOff x="7300800" y="5426280"/>
                <a:chExt cx="1299960" cy="35712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7427160" y="5426280"/>
                  <a:ext cx="10468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7300800" y="5426280"/>
                  <a:ext cx="129996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9" name=""/>
              <p:cNvGrpSpPr/>
              <p:nvPr/>
            </p:nvGrpSpPr>
            <p:grpSpPr>
              <a:xfrm>
                <a:off x="8640" y="5783400"/>
                <a:ext cx="4251960" cy="357120"/>
                <a:chOff x="8640" y="5783400"/>
                <a:chExt cx="4251960" cy="357120"/>
              </a:xfrm>
            </p:grpSpPr>
            <p:sp>
              <p:nvSpPr>
                <p:cNvPr id="810" name=""/>
                <p:cNvSpPr/>
                <p:nvPr/>
              </p:nvSpPr>
              <p:spPr>
                <a:xfrm>
                  <a:off x="135000" y="5783400"/>
                  <a:ext cx="39988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Хлеб 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(цельный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8640" y="5783400"/>
                  <a:ext cx="425196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2" name=""/>
              <p:cNvGrpSpPr/>
              <p:nvPr/>
            </p:nvGrpSpPr>
            <p:grpSpPr>
              <a:xfrm>
                <a:off x="4260960" y="5783400"/>
                <a:ext cx="1410840" cy="357120"/>
                <a:chOff x="4260960" y="5783400"/>
                <a:chExt cx="1410840" cy="35712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4386600" y="5783400"/>
                  <a:ext cx="11584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0 гр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4260960" y="5783400"/>
                  <a:ext cx="141084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5" name=""/>
              <p:cNvGrpSpPr/>
              <p:nvPr/>
            </p:nvGrpSpPr>
            <p:grpSpPr>
              <a:xfrm>
                <a:off x="5672160" y="5783400"/>
                <a:ext cx="1627920" cy="357120"/>
                <a:chOff x="5672160" y="5783400"/>
                <a:chExt cx="1627920" cy="357120"/>
              </a:xfrm>
            </p:grpSpPr>
            <p:sp>
              <p:nvSpPr>
                <p:cNvPr id="816" name=""/>
                <p:cNvSpPr/>
                <p:nvPr/>
              </p:nvSpPr>
              <p:spPr>
                <a:xfrm>
                  <a:off x="5797800" y="5783400"/>
                  <a:ext cx="13762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8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672160" y="5783400"/>
                  <a:ext cx="162792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8" name=""/>
              <p:cNvGrpSpPr/>
              <p:nvPr/>
            </p:nvGrpSpPr>
            <p:grpSpPr>
              <a:xfrm>
                <a:off x="7300800" y="5783400"/>
                <a:ext cx="1299960" cy="357120"/>
                <a:chOff x="7300800" y="5783400"/>
                <a:chExt cx="1299960" cy="357120"/>
              </a:xfrm>
            </p:grpSpPr>
            <p:sp>
              <p:nvSpPr>
                <p:cNvPr id="819" name=""/>
                <p:cNvSpPr/>
                <p:nvPr/>
              </p:nvSpPr>
              <p:spPr>
                <a:xfrm>
                  <a:off x="7427160" y="5783400"/>
                  <a:ext cx="10468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7300800" y="5783400"/>
                  <a:ext cx="129996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1" name=""/>
              <p:cNvGrpSpPr/>
              <p:nvPr/>
            </p:nvGrpSpPr>
            <p:grpSpPr>
              <a:xfrm>
                <a:off x="8640" y="6140520"/>
                <a:ext cx="4251960" cy="357120"/>
                <a:chOff x="8640" y="6140520"/>
                <a:chExt cx="4251960" cy="357120"/>
              </a:xfrm>
            </p:grpSpPr>
            <p:sp>
              <p:nvSpPr>
                <p:cNvPr id="822" name=""/>
                <p:cNvSpPr/>
                <p:nvPr/>
              </p:nvSpPr>
              <p:spPr>
                <a:xfrm>
                  <a:off x="135000" y="6140520"/>
                  <a:ext cx="39988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Помидоры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8640" y="6140520"/>
                  <a:ext cx="425196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4" name=""/>
              <p:cNvGrpSpPr/>
              <p:nvPr/>
            </p:nvGrpSpPr>
            <p:grpSpPr>
              <a:xfrm>
                <a:off x="4260960" y="6140520"/>
                <a:ext cx="1410840" cy="357120"/>
                <a:chOff x="4260960" y="6140520"/>
                <a:chExt cx="1410840" cy="35712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4386600" y="6140520"/>
                  <a:ext cx="11584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 ст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4260960" y="6140520"/>
                  <a:ext cx="141084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7" name=""/>
              <p:cNvGrpSpPr/>
              <p:nvPr/>
            </p:nvGrpSpPr>
            <p:grpSpPr>
              <a:xfrm>
                <a:off x="5672160" y="6140520"/>
                <a:ext cx="1627920" cy="357120"/>
                <a:chOff x="5672160" y="6140520"/>
                <a:chExt cx="1627920" cy="35712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5797800" y="6140520"/>
                  <a:ext cx="13762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5672160" y="6140520"/>
                  <a:ext cx="162792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0" name=""/>
              <p:cNvGrpSpPr/>
              <p:nvPr/>
            </p:nvGrpSpPr>
            <p:grpSpPr>
              <a:xfrm>
                <a:off x="7300800" y="6140520"/>
                <a:ext cx="1299960" cy="357120"/>
                <a:chOff x="7300800" y="6140520"/>
                <a:chExt cx="1299960" cy="357120"/>
              </a:xfrm>
            </p:grpSpPr>
            <p:sp>
              <p:nvSpPr>
                <p:cNvPr id="831" name=""/>
                <p:cNvSpPr/>
                <p:nvPr/>
              </p:nvSpPr>
              <p:spPr>
                <a:xfrm>
                  <a:off x="7427160" y="6140520"/>
                  <a:ext cx="10468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7300800" y="6140520"/>
                  <a:ext cx="129996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3" name=""/>
              <p:cNvGrpSpPr/>
              <p:nvPr/>
            </p:nvGrpSpPr>
            <p:grpSpPr>
              <a:xfrm>
                <a:off x="8640" y="6498000"/>
                <a:ext cx="4251960" cy="357120"/>
                <a:chOff x="8640" y="6498000"/>
                <a:chExt cx="4251960" cy="35712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135000" y="6498000"/>
                  <a:ext cx="39988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Морковь 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(потёртая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8640" y="6498000"/>
                  <a:ext cx="425196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6" name=""/>
              <p:cNvGrpSpPr/>
              <p:nvPr/>
            </p:nvGrpSpPr>
            <p:grpSpPr>
              <a:xfrm>
                <a:off x="4260960" y="6498000"/>
                <a:ext cx="1410840" cy="357120"/>
                <a:chOff x="4260960" y="6498000"/>
                <a:chExt cx="1410840" cy="357120"/>
              </a:xfrm>
            </p:grpSpPr>
            <p:sp>
              <p:nvSpPr>
                <p:cNvPr id="837" name=""/>
                <p:cNvSpPr/>
                <p:nvPr/>
              </p:nvSpPr>
              <p:spPr>
                <a:xfrm>
                  <a:off x="4386600" y="6498000"/>
                  <a:ext cx="11584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 ст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4260960" y="6498000"/>
                  <a:ext cx="141084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9" name=""/>
              <p:cNvGrpSpPr/>
              <p:nvPr/>
            </p:nvGrpSpPr>
            <p:grpSpPr>
              <a:xfrm>
                <a:off x="5672160" y="6498000"/>
                <a:ext cx="1627920" cy="357120"/>
                <a:chOff x="5672160" y="6498000"/>
                <a:chExt cx="1627920" cy="357120"/>
              </a:xfrm>
            </p:grpSpPr>
            <p:sp>
              <p:nvSpPr>
                <p:cNvPr id="840" name=""/>
                <p:cNvSpPr/>
                <p:nvPr/>
              </p:nvSpPr>
              <p:spPr>
                <a:xfrm>
                  <a:off x="5797800" y="6498000"/>
                  <a:ext cx="13762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5672160" y="6498000"/>
                  <a:ext cx="162792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2" name=""/>
              <p:cNvGrpSpPr/>
              <p:nvPr/>
            </p:nvGrpSpPr>
            <p:grpSpPr>
              <a:xfrm>
                <a:off x="7300800" y="6498000"/>
                <a:ext cx="1299960" cy="357120"/>
                <a:chOff x="7300800" y="6498000"/>
                <a:chExt cx="1299960" cy="357120"/>
              </a:xfrm>
            </p:grpSpPr>
            <p:sp>
              <p:nvSpPr>
                <p:cNvPr id="843" name=""/>
                <p:cNvSpPr/>
                <p:nvPr/>
              </p:nvSpPr>
              <p:spPr>
                <a:xfrm>
                  <a:off x="7427160" y="6498000"/>
                  <a:ext cx="10468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7300800" y="6498000"/>
                  <a:ext cx="1299960" cy="35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45" name=""/>
            <p:cNvSpPr/>
            <p:nvPr/>
          </p:nvSpPr>
          <p:spPr>
            <a:xfrm>
              <a:off x="0" y="685800"/>
              <a:ext cx="8610120" cy="6172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ЖИВОТНЫЙ БЕЛО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ере кальция с мочо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ию риска остеопороз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ию риска камней в почка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реждению нефронов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Усилению образования мочевой кислоты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066680" y="1371600"/>
            <a:ext cx="7239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отребление животного белка ведёт 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ЖИВОТНЫЙ БЕЛО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личение потребности в витаминах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ие риска ССЗ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ие риска рак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нетению иммунной системы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838080" y="99072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отребление животного белка ведёт 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вотный бело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угнетает иммунную систему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раничение в рационе 2-х аминокислот (фенилаланин и тирозин), источником которых являются в основном животные продукты, способствовало повышению активности иммунной системы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il Nedley, M.D.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Proof Positive” p. 15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ОПРЕДЕЛЕ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лок – это соединение, содержащее в себе атомы углерода, водорода, кислорода и азота,  соединенные в цепеподобные аминокислоты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6629400" y="3962520"/>
            <a:ext cx="16095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УГНЕТЕНИЕ ИММУННОЙ СИСТЕ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5" name=""/>
          <p:cNvGraphicFramePr/>
          <p:nvPr/>
        </p:nvGraphicFramePr>
        <p:xfrm>
          <a:off x="152280" y="1143000"/>
          <a:ext cx="8763120" cy="5232240"/>
        </p:xfrm>
        <a:graphic>
          <a:graphicData uri="http://schemas.openxmlformats.org/drawingml/2006/table">
            <a:tbl>
              <a:tblPr/>
              <a:tblGrid>
                <a:gridCol w="381240"/>
                <a:gridCol w="533160"/>
                <a:gridCol w="4724640"/>
                <a:gridCol w="3124080"/>
              </a:tblGrid>
              <a:tr h="515520"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ета с низким содержанием 2-х аминокисло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ычная ди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-помощ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-цитотокс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                                       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родные убий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56" name=""/>
          <p:cNvSpPr/>
          <p:nvPr/>
        </p:nvSpPr>
        <p:spPr>
          <a:xfrm>
            <a:off x="-92160" y="3241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1143000" y="2133360"/>
            <a:ext cx="4648320" cy="171612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791320" y="2133720"/>
            <a:ext cx="2590560" cy="182880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1143000" y="3809880"/>
            <a:ext cx="4648320" cy="11052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791320" y="3809880"/>
            <a:ext cx="2666880" cy="6858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1143000" y="5105520"/>
            <a:ext cx="4648320" cy="914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486400" y="64771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День 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8001000" y="64771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День 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5791320" y="4723920"/>
            <a:ext cx="2666880" cy="3812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ЖИВОТНЫЙ БЕЛОК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 РАК ЛИМФОУЗ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6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16292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8" name=""/>
          <p:cNvGraphicFramePr/>
          <p:nvPr/>
        </p:nvGraphicFramePr>
        <p:xfrm>
          <a:off x="304920" y="2133720"/>
          <a:ext cx="8381880" cy="46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33720"/>
                    <a:ext cx="8381880" cy="46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0" name=""/>
          <p:cNvSpPr/>
          <p:nvPr/>
        </p:nvSpPr>
        <p:spPr>
          <a:xfrm>
            <a:off x="457200" y="24382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57200" y="266688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04920" y="3962520"/>
            <a:ext cx="838080" cy="7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отеря кальция (м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1952640"/>
            <a:ext cx="77724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ЖИРЫ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Жиры необходимы дл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структуры стенок клет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получения энер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усвоения жирорастворимых витамин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изоляции и защи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достижения чувства насыщ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улучшения вкуса пищ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поставки незаменимых жирных кислот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ahoma"/>
                <a:ea typeface="Times New Roman"/>
              </a:rPr>
              <a:t>Жиры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85800" y="12193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иры  включают  в  себя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33520" y="21337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иглицериды (жиры и масла)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09480" y="29718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осфолипиды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9480" y="3962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ерины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ahoma"/>
                <a:ea typeface="Times New Roman"/>
              </a:rPr>
              <a:t>Триглицериды</a:t>
            </a:r>
            <a:r>
              <a:rPr b="1" lang="ru-RU" sz="6000" spc="-1" strike="noStrike">
                <a:solidFill>
                  <a:srgbClr val="1d7d2b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2" name=""/>
          <p:cNvSpPr/>
          <p:nvPr/>
        </p:nvSpPr>
        <p:spPr>
          <a:xfrm>
            <a:off x="380880" y="19810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обладают  как  в  пище так  и  в  теле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57200" y="29718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  могут  быть  растворены  в  воде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57200" y="38862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гут  быть  растворены  в  других  жирах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57200" y="4724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стоят  из  трёх  жирных  кислот, присоединённых  к молекуле глицерин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62120" y="1523880"/>
            <a:ext cx="1295280" cy="3886200"/>
          </a:xfrm>
          <a:prstGeom prst="rect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048120" y="1523880"/>
            <a:ext cx="2819160" cy="914400"/>
          </a:xfrm>
          <a:prstGeom prst="rect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048120" y="2971800"/>
            <a:ext cx="2819160" cy="914400"/>
          </a:xfrm>
          <a:prstGeom prst="rect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048120" y="4419720"/>
            <a:ext cx="2819160" cy="914400"/>
          </a:xfrm>
          <a:prstGeom prst="rect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62120" y="1523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лицер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124080" y="17524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d1df"/>
                </a:solidFill>
                <a:latin typeface="Times New Roman"/>
              </a:rPr>
              <a:t>Жирн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048120" y="32004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рн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4648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d1df"/>
                </a:solidFill>
                <a:latin typeface="Times New Roman"/>
              </a:rPr>
              <a:t>Жирна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057400" y="19810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057400" y="342900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057400" y="487692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248520" y="3657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ывают  насыщенными  и  ненасыщенными</a:t>
            </a:r>
            <a:r>
              <a:rPr b="0" lang="en-US" sz="24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324480" y="2514600"/>
            <a:ext cx="243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ирные  кисло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55640" y="33336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СЫЩЕННЫЙ   ЖИР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09480" y="1371600"/>
            <a:ext cx="8153640" cy="77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 H   H   H   H   H   H   H   H   O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I     I     I    I     I     I    I    II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- C - C - C - C - C - C - C - C - C - C - OH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I     I     I    I     I     I    I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H   H   H    H   H   H   H  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143000" y="12193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нём  преобладают  насыщенные  Ж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-152280" y="1371600"/>
            <a:ext cx="9144000" cy="527688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Аминокислот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ществует 20 аминокислот используемых организмом для синтеза (образования) белка. 12 из них могут быть произведены организмом из других веществ. 8 из них не могут быть произведены организмом и должны поступать с пищей. Поэтому они названы незаменимыми аминокислота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imes New Roman"/>
              </a:rPr>
              <a:t>НАСЫЩЕННЫЙ   ЖИР</a:t>
            </a:r>
            <a:r>
              <a:rPr b="0" lang="en-US" sz="4400" spc="-1" strike="noStrike">
                <a:solidFill>
                  <a:srgbClr val="1d7d2b"/>
                </a:solidFill>
                <a:latin typeface="Tahoma"/>
                <a:ea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насыщен  водород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твёрдый  при  комнатной  t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ahoma"/>
                <a:ea typeface="Times New Roman"/>
              </a:rPr>
              <a:t>0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делает  стенки  клеток  негибки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повышает  холестер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способствует  образованию  тромб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с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окращает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коронарные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сосуды  серд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imes New Roman"/>
              </a:rPr>
              <a:t>НАСЫЩЕННЫЙ   ЖИР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67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Примеры  насыщенных  жиров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67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67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Все  животные  жиры, за  исключением  рыбьего  жира, - сливочное масло, свиной жир и т. д. Кокосовое  и  пальмовое  масло - исключения  в  растительном  мир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67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imes New Roman"/>
              </a:rPr>
              <a:t>НЕНАСЫЩЕННЫЙ  ЖИР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H    H   H    H   H   H    H   H   H   O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I     I     I     I     I     I     I     I    I    II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H - C - C - C = C - C - C = C - C - C - C - OH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I     I                 I                I    I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H   H                H               H   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imes New Roman"/>
              </a:rPr>
              <a:t>НЕНАСЫЩЕННЫЙ  ЖИР</a:t>
            </a:r>
            <a:r>
              <a:rPr b="1" lang="en-US" sz="4400" spc="-1" strike="noStrike">
                <a:solidFill>
                  <a:srgbClr val="1d7d2b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 algn="just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ненасыщен  водород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 algn="just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имеет  как  меньшее  1  двойную  связ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 algn="just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жидкий  при  комнатной  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  <a:ea typeface="Times New Roman"/>
              </a:rPr>
              <a:t>0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 algn="just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делает  стенки  клеток  гибки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 algn="just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не  повышает  холестер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 algn="just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избыточное  употребление  ведёт  к  ра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 algn="just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в избытке  причиняет  слипание  эритроци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/>
          </p:nvPr>
        </p:nvSpPr>
        <p:spPr>
          <a:xfrm>
            <a:off x="457200" y="2682360"/>
            <a:ext cx="8229600" cy="19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Times New Roman"/>
              </a:rPr>
              <a:t>Мононенасыщенный  жи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Times New Roman"/>
              </a:rPr>
              <a:t>Полиненасыщенный  жир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title"/>
          </p:nvPr>
        </p:nvSpPr>
        <p:spPr>
          <a:xfrm>
            <a:off x="324000" y="62028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  <a:ea typeface="Times New Roman"/>
              </a:rPr>
              <a:t>Виды  ненасыщенных  жиров</a:t>
            </a:r>
            <a:r>
              <a:rPr b="1" lang="en-US" sz="4800" spc="-1" strike="noStrike">
                <a:solidFill>
                  <a:srgbClr val="1d7d2b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36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804600" cy="838440"/>
          </a:xfrm>
          <a:prstGeom prst="rect">
            <a:avLst/>
          </a:prstGeom>
          <a:ln w="0">
            <a:noFill/>
          </a:ln>
        </p:spPr>
      </p:pic>
      <p:pic>
        <p:nvPicPr>
          <p:cNvPr id="937" name="" descr=""/>
          <p:cNvPicPr/>
          <p:nvPr/>
        </p:nvPicPr>
        <p:blipFill>
          <a:blip r:embed="rId2"/>
          <a:stretch/>
        </p:blipFill>
        <p:spPr>
          <a:xfrm>
            <a:off x="2133720" y="5105520"/>
            <a:ext cx="804600" cy="838080"/>
          </a:xfrm>
          <a:prstGeom prst="rect">
            <a:avLst/>
          </a:prstGeom>
          <a:ln w="0">
            <a:noFill/>
          </a:ln>
        </p:spPr>
      </p:pic>
      <p:pic>
        <p:nvPicPr>
          <p:cNvPr id="938" name="" descr=""/>
          <p:cNvPicPr/>
          <p:nvPr/>
        </p:nvPicPr>
        <p:blipFill>
          <a:blip r:embed="rId3"/>
          <a:stretch/>
        </p:blipFill>
        <p:spPr>
          <a:xfrm>
            <a:off x="990720" y="5181480"/>
            <a:ext cx="804600" cy="83844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"/>
          <p:cNvPicPr/>
          <p:nvPr/>
        </p:nvPicPr>
        <p:blipFill>
          <a:blip r:embed="rId4"/>
          <a:stretch/>
        </p:blipFill>
        <p:spPr>
          <a:xfrm>
            <a:off x="3276720" y="5105520"/>
            <a:ext cx="804600" cy="838080"/>
          </a:xfrm>
          <a:prstGeom prst="rect">
            <a:avLst/>
          </a:prstGeom>
          <a:ln w="0">
            <a:noFill/>
          </a:ln>
        </p:spPr>
      </p:pic>
      <p:pic>
        <p:nvPicPr>
          <p:cNvPr id="940" name="" descr=""/>
          <p:cNvPicPr/>
          <p:nvPr/>
        </p:nvPicPr>
        <p:blipFill>
          <a:blip r:embed="rId5"/>
          <a:stretch/>
        </p:blipFill>
        <p:spPr>
          <a:xfrm>
            <a:off x="434340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941" name="" descr=""/>
          <p:cNvPicPr/>
          <p:nvPr/>
        </p:nvPicPr>
        <p:blipFill>
          <a:blip r:embed="rId6"/>
          <a:stretch/>
        </p:blipFill>
        <p:spPr>
          <a:xfrm>
            <a:off x="541008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942" name="" descr=""/>
          <p:cNvPicPr/>
          <p:nvPr/>
        </p:nvPicPr>
        <p:blipFill>
          <a:blip r:embed="rId7"/>
          <a:stretch/>
        </p:blipFill>
        <p:spPr>
          <a:xfrm>
            <a:off x="640080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943" name="" descr=""/>
          <p:cNvPicPr/>
          <p:nvPr/>
        </p:nvPicPr>
        <p:blipFill>
          <a:blip r:embed="rId8"/>
          <a:stretch/>
        </p:blipFill>
        <p:spPr>
          <a:xfrm>
            <a:off x="7391520" y="5105520"/>
            <a:ext cx="804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  <a:ea typeface="Times New Roman"/>
              </a:rPr>
              <a:t>Мононенасыщенный  жир</a:t>
            </a:r>
            <a:r>
              <a:rPr b="1" lang="en-US" sz="4800" spc="-1" strike="noStrike">
                <a:solidFill>
                  <a:srgbClr val="1d7d2b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имеет  одну  двойную  связ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понижает «плохой»  холестерин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ЛНП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е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снижает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«хороший»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холестерин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ЛВП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менее  склонен  к  окислени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8" name=""/>
          <p:cNvSpPr/>
          <p:nvPr/>
        </p:nvSpPr>
        <p:spPr>
          <a:xfrm>
            <a:off x="228600" y="44956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: оливковое  масло, рапсовое  масло, миндал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ahoma"/>
                <a:ea typeface="Times New Roman"/>
              </a:rPr>
              <a:t>Полиненасыщенный  жир</a:t>
            </a:r>
            <a:r>
              <a:rPr b="1" lang="en-US" sz="5400" spc="-1" strike="noStrike">
                <a:solidFill>
                  <a:srgbClr val="1d7d2b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более  одной  двойной  связ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понижает  ЛНП и ЛВП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Понижает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образование  тромб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склонен  к  окислению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"/>
          <p:cNvSpPr/>
          <p:nvPr/>
        </p:nvSpPr>
        <p:spPr>
          <a:xfrm>
            <a:off x="533520" y="45720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: соевое  масло, кукурузное  масло, подсолнечное  масло, грецкие  орехи и др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ahoma"/>
                <a:ea typeface="Times New Roman"/>
              </a:rPr>
              <a:t>Гидрогенизация</a:t>
            </a:r>
            <a:r>
              <a:rPr b="1" lang="en-US" sz="66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Гидрогенизация полиненасыщенных жиров производится путём добавления водорода к неустойчивым двойным связям. Благодаря этому эти жиры становятся менее подверженными окислению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ahoma"/>
                <a:ea typeface="Times New Roman"/>
              </a:rPr>
              <a:t>Гидрогенизация</a:t>
            </a:r>
            <a:r>
              <a:rPr b="1" lang="en-US" sz="66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теряют свойства полиненасыщенных жиров, становясь более густым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повышают риск ССЗ и подозреваются в причастности к заболеванию рако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380880" y="12952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гидрогенизированные жир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  <a:ea typeface="Times New Roman"/>
              </a:rPr>
              <a:t>ПИЩЕВАРЕНИЕ  ЖИРОВ</a:t>
            </a:r>
            <a:r>
              <a:rPr b="1" lang="en-US" sz="4800" spc="-1" strike="noStrike">
                <a:solidFill>
                  <a:srgbClr val="1d7d2b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Рот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одъязычная  слюнная  железа  выделяет  фермент липазу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У  взрослых  она  играет  небольшую  роль  в  пищеварении  жир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7" name="" descr=""/>
          <p:cNvPicPr/>
          <p:nvPr/>
        </p:nvPicPr>
        <p:blipFill>
          <a:blip r:embed="rId1"/>
          <a:stretch/>
        </p:blipFill>
        <p:spPr>
          <a:xfrm>
            <a:off x="5638680" y="3749760"/>
            <a:ext cx="403884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лок необходим для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Производства фермент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Синтеза бел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Поддержания водного балан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Поддержания электролитного балан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держания азотного баланс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  <a:ea typeface="Times New Roman"/>
              </a:rPr>
              <a:t>ПИЩЕВАРЕНИЕ  ЖИРОВ</a:t>
            </a:r>
            <a:r>
              <a:rPr b="1" lang="en-US" sz="4800" spc="-1" strike="noStrike">
                <a:solidFill>
                  <a:srgbClr val="1d7d2b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7720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Желудок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Ж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елудочная  липаза  расщепляет  небольшое  кол-во  жир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Жиры  покидают  желудок  очень  медленно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(10 гр.  или  2 ч.л. в  час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2" name="" descr=""/>
          <p:cNvPicPr/>
          <p:nvPr/>
        </p:nvPicPr>
        <p:blipFill>
          <a:blip r:embed="rId1"/>
          <a:stretch/>
        </p:blipFill>
        <p:spPr>
          <a:xfrm>
            <a:off x="6948360" y="3573360"/>
            <a:ext cx="2195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5" name="" descr=""/>
          <p:cNvPicPr/>
          <p:nvPr/>
        </p:nvPicPr>
        <p:blipFill>
          <a:blip r:embed="rId1"/>
          <a:stretch/>
        </p:blipFill>
        <p:spPr>
          <a:xfrm>
            <a:off x="5943600" y="2144880"/>
            <a:ext cx="3809880" cy="3875040"/>
          </a:xfrm>
          <a:prstGeom prst="rect">
            <a:avLst/>
          </a:prstGeom>
          <a:ln w="0">
            <a:noFill/>
          </a:ln>
        </p:spPr>
      </p:pic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  <a:ea typeface="Times New Roman"/>
              </a:rPr>
              <a:t>ПИЩЕВАРЕНИЕ  ЖИРОВ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7146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Тонкий  кишечник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оджелудочная и кишечная липаза завершают расщепление жир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Здесь происходит всасывание моноглицеридов, глицерина и Ж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60% жира всасывается в лимфатическую систему, замедляя его поступление в кров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РЕКОМЕНДУЕМЫЕ НОРМ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Лучше всего употреблять жиры в их природном состоянии, т.е. в орехах, семечках, семенах и плода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50-60 грамм орехов, семечек или 3-4 ст. л. растительного масла, плюс жиры, изначально находящихся в продуктах дают рекомендуемые 20-25% калорий из жиров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4" name=""/>
          <p:cNvGraphicFramePr/>
          <p:nvPr/>
        </p:nvGraphicFramePr>
        <p:xfrm>
          <a:off x="228600" y="233280"/>
          <a:ext cx="8686800" cy="66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33280"/>
                    <a:ext cx="8686800" cy="66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666720" y="228600"/>
          <a:ext cx="781056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720" y="228600"/>
                    <a:ext cx="78105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2" name=""/>
          <p:cNvGraphicFramePr/>
          <p:nvPr/>
        </p:nvGraphicFramePr>
        <p:xfrm>
          <a:off x="620640" y="457200"/>
          <a:ext cx="790416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457200"/>
                    <a:ext cx="79041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6" name=""/>
          <p:cNvGraphicFramePr/>
          <p:nvPr/>
        </p:nvGraphicFramePr>
        <p:xfrm>
          <a:off x="380880" y="533520"/>
          <a:ext cx="8458200" cy="60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33520"/>
                    <a:ext cx="845820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8" name=""/>
          <p:cNvGraphicFramePr/>
          <p:nvPr/>
        </p:nvGraphicFramePr>
        <p:xfrm>
          <a:off x="617400" y="128520"/>
          <a:ext cx="7909200" cy="66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28520"/>
                    <a:ext cx="7909200" cy="66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0" name=""/>
          <p:cNvGraphicFramePr/>
          <p:nvPr/>
        </p:nvGraphicFramePr>
        <p:xfrm>
          <a:off x="623880" y="685800"/>
          <a:ext cx="789624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685800"/>
                    <a:ext cx="789624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2" name=""/>
          <p:cNvSpPr/>
          <p:nvPr/>
        </p:nvSpPr>
        <p:spPr>
          <a:xfrm>
            <a:off x="380880" y="3048120"/>
            <a:ext cx="327672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Толстый кишечн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рямая киш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ростат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Молочная желез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Мат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Яичн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Лёгки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3" name=""/>
          <p:cNvGraphicFramePr/>
          <p:nvPr/>
        </p:nvGraphicFramePr>
        <p:xfrm>
          <a:off x="304920" y="324000"/>
          <a:ext cx="8610480" cy="76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4000"/>
                    <a:ext cx="8610480" cy="76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лок необходим для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6. Производства антите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7. Производства гормон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8. Выполнения транспортной функ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9. Свёртывания кров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0.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ования новых тканей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24000" y="1484280"/>
            <a:ext cx="882000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c66e5c"/>
                </a:solidFill>
                <a:latin typeface="Arial"/>
                <a:ea typeface="Times New Roman"/>
              </a:rPr>
              <a:t>УГЛЕВОДЫ</a:t>
            </a:r>
            <a:r>
              <a:rPr b="0" lang="en-US" sz="11800" spc="-1" strike="noStrike">
                <a:solidFill>
                  <a:srgbClr val="c66e5c"/>
                </a:solidFill>
                <a:latin typeface="Arial"/>
              </a:rPr>
              <a:t> </a:t>
            </a:r>
            <a:endParaRPr b="1" lang="en-US" sz="1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66e5c"/>
                </a:solidFill>
                <a:latin typeface="Arial"/>
                <a:ea typeface="Times New Roman"/>
              </a:rPr>
              <a:t>            </a:t>
            </a:r>
            <a:r>
              <a:rPr b="1" lang="ru-RU" sz="3200" spc="-1" strike="noStrike">
                <a:solidFill>
                  <a:srgbClr val="c66e5c"/>
                </a:solidFill>
                <a:latin typeface="Arial"/>
                <a:ea typeface="Times New Roman"/>
              </a:rPr>
              <a:t>(Крахмалы и сахара)</a:t>
            </a:r>
            <a:r>
              <a:rPr b="1" lang="ru-RU" sz="3200" spc="-1" strike="noStrike">
                <a:solidFill>
                  <a:srgbClr val="c66e5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УГЛЕВОДЫ</a:t>
            </a:r>
            <a:r>
              <a:rPr b="0" lang="en-US" sz="6000" spc="-1" strike="noStrike">
                <a:solidFill>
                  <a:srgbClr val="c66e5c"/>
                </a:solidFill>
                <a:latin typeface="Arial Black"/>
              </a:rPr>
              <a:t>  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7480" cy="108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остоят  из атомов углерода, кислорода и водород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C|O|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0" y="32004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набжают  энергией  для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) немедленного использования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0" y="4572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) отложения  в  складах  для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удущего  употребл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3" name="" descr=""/>
          <p:cNvPicPr/>
          <p:nvPr/>
        </p:nvPicPr>
        <p:blipFill>
          <a:blip r:embed="rId1"/>
          <a:stretch/>
        </p:blipFill>
        <p:spPr>
          <a:xfrm>
            <a:off x="7315200" y="838080"/>
            <a:ext cx="8049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66e5c"/>
                </a:solidFill>
                <a:latin typeface="Arial"/>
                <a:ea typeface="Times New Roman"/>
              </a:rPr>
              <a:t>УГЛЕВОДЫ</a:t>
            </a:r>
            <a:r>
              <a:rPr b="1" lang="en-US" sz="6000" spc="-1" strike="noStrike">
                <a:solidFill>
                  <a:srgbClr val="c66e5c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Необходим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ы для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16" name="" descr=""/>
          <p:cNvPicPr/>
          <p:nvPr/>
        </p:nvPicPr>
        <p:blipFill>
          <a:blip r:embed="rId1"/>
          <a:stretch/>
        </p:blipFill>
        <p:spPr>
          <a:xfrm>
            <a:off x="7315200" y="914400"/>
            <a:ext cx="804960" cy="838080"/>
          </a:xfrm>
          <a:prstGeom prst="rect">
            <a:avLst/>
          </a:prstGeom>
          <a:ln w="0">
            <a:noFill/>
          </a:ln>
        </p:spPr>
      </p:pic>
      <p:sp>
        <p:nvSpPr>
          <p:cNvPr id="1017" name=""/>
          <p:cNvSpPr/>
          <p:nvPr/>
        </p:nvSpPr>
        <p:spPr>
          <a:xfrm>
            <a:off x="685800" y="2733840"/>
            <a:ext cx="79246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еспечения энерги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бережения бел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аболизма жи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езвреживания токсин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улировки перисталь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еспечения стройматери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" descr=""/>
          <p:cNvPicPr/>
          <p:nvPr/>
        </p:nvPicPr>
        <p:blipFill>
          <a:blip r:embed="rId1"/>
          <a:stretch/>
        </p:blipFill>
        <p:spPr>
          <a:xfrm>
            <a:off x="7467480" y="3048120"/>
            <a:ext cx="982800" cy="1527120"/>
          </a:xfrm>
          <a:prstGeom prst="rect">
            <a:avLst/>
          </a:prstGeom>
          <a:ln w="0">
            <a:noFill/>
          </a:ln>
        </p:spPr>
      </p:pic>
      <p:pic>
        <p:nvPicPr>
          <p:cNvPr id="1019" name="" descr=""/>
          <p:cNvPicPr/>
          <p:nvPr/>
        </p:nvPicPr>
        <p:blipFill>
          <a:blip r:embed="rId2"/>
          <a:stretch/>
        </p:blipFill>
        <p:spPr>
          <a:xfrm>
            <a:off x="6259680" y="3319560"/>
            <a:ext cx="1589040" cy="1252440"/>
          </a:xfrm>
          <a:prstGeom prst="rect">
            <a:avLst/>
          </a:prstGeom>
          <a:ln w="0">
            <a:noFill/>
          </a:ln>
        </p:spPr>
      </p:pic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Моносахариды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66e5c"/>
                </a:solidFill>
                <a:latin typeface="Arial"/>
                <a:ea typeface="Times New Roman"/>
              </a:rPr>
              <a:t>ПРОСТЫЕ  УГЛЕВОДЫ</a:t>
            </a:r>
            <a:br>
              <a:rPr sz="5400"/>
            </a:b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2972520" y="3814920"/>
            <a:ext cx="287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укто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971800" y="480060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акто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972160" y="2975040"/>
            <a:ext cx="261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юко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3"/>
          <a:stretch/>
        </p:blipFill>
        <p:spPr>
          <a:xfrm>
            <a:off x="4114800" y="137160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1026" name="" descr=""/>
          <p:cNvPicPr/>
          <p:nvPr/>
        </p:nvPicPr>
        <p:blipFill>
          <a:blip r:embed="rId4"/>
          <a:stretch/>
        </p:blipFill>
        <p:spPr>
          <a:xfrm>
            <a:off x="6477120" y="3657600"/>
            <a:ext cx="1249200" cy="1012680"/>
          </a:xfrm>
          <a:prstGeom prst="rect">
            <a:avLst/>
          </a:prstGeom>
          <a:ln w="0">
            <a:noFill/>
          </a:ln>
        </p:spPr>
      </p:pic>
      <p:pic>
        <p:nvPicPr>
          <p:cNvPr id="1027" name="" descr=""/>
          <p:cNvPicPr/>
          <p:nvPr/>
        </p:nvPicPr>
        <p:blipFill>
          <a:blip r:embed="rId5"/>
          <a:stretch/>
        </p:blipFill>
        <p:spPr>
          <a:xfrm>
            <a:off x="596880" y="4191120"/>
            <a:ext cx="214632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/>
          </p:nvPr>
        </p:nvSpPr>
        <p:spPr>
          <a:xfrm>
            <a:off x="380880" y="1295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2296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Дисахариды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66e5c"/>
                </a:solidFill>
                <a:latin typeface="Arial"/>
                <a:ea typeface="Times New Roman"/>
              </a:rPr>
              <a:t>ПРОСТЫЕ  УГЛЕВОДЫ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212920" y="2971800"/>
            <a:ext cx="462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хароза (гл.+фр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212560" y="4724280"/>
            <a:ext cx="45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тоза (гл.+гал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158920" y="3886200"/>
            <a:ext cx="492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тоза  (гл.+гл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3" name="" descr=""/>
          <p:cNvPicPr/>
          <p:nvPr/>
        </p:nvPicPr>
        <p:blipFill>
          <a:blip r:embed="rId1"/>
          <a:stretch/>
        </p:blipFill>
        <p:spPr>
          <a:xfrm>
            <a:off x="6781680" y="1676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1034" name="" descr=""/>
          <p:cNvPicPr/>
          <p:nvPr/>
        </p:nvPicPr>
        <p:blipFill>
          <a:blip r:embed="rId2"/>
          <a:stretch/>
        </p:blipFill>
        <p:spPr>
          <a:xfrm>
            <a:off x="7848720" y="1676520"/>
            <a:ext cx="804600" cy="838080"/>
          </a:xfrm>
          <a:prstGeom prst="rect">
            <a:avLst/>
          </a:prstGeom>
          <a:ln w="0">
            <a:noFill/>
          </a:ln>
        </p:spPr>
      </p:pic>
      <p:pic>
        <p:nvPicPr>
          <p:cNvPr id="1035" name="" descr=""/>
          <p:cNvPicPr/>
          <p:nvPr/>
        </p:nvPicPr>
        <p:blipFill>
          <a:blip r:embed="rId3"/>
          <a:stretch/>
        </p:blipFill>
        <p:spPr>
          <a:xfrm>
            <a:off x="6934320" y="4800600"/>
            <a:ext cx="1904760" cy="1824120"/>
          </a:xfrm>
          <a:prstGeom prst="rect">
            <a:avLst/>
          </a:prstGeom>
          <a:ln w="0">
            <a:noFill/>
          </a:ln>
        </p:spPr>
      </p:pic>
      <p:pic>
        <p:nvPicPr>
          <p:cNvPr id="1036" name="" descr=""/>
          <p:cNvPicPr/>
          <p:nvPr/>
        </p:nvPicPr>
        <p:blipFill>
          <a:blip r:embed="rId4"/>
          <a:stretch/>
        </p:blipFill>
        <p:spPr>
          <a:xfrm>
            <a:off x="7772400" y="2590920"/>
            <a:ext cx="957240" cy="1145880"/>
          </a:xfrm>
          <a:prstGeom prst="rect">
            <a:avLst/>
          </a:prstGeom>
          <a:ln w="0">
            <a:noFill/>
          </a:ln>
        </p:spPr>
      </p:pic>
      <p:pic>
        <p:nvPicPr>
          <p:cNvPr id="1037" name="" descr=""/>
          <p:cNvPicPr/>
          <p:nvPr/>
        </p:nvPicPr>
        <p:blipFill>
          <a:blip r:embed="rId5"/>
          <a:stretch/>
        </p:blipFill>
        <p:spPr>
          <a:xfrm>
            <a:off x="7162920" y="2901960"/>
            <a:ext cx="914400" cy="907920"/>
          </a:xfrm>
          <a:prstGeom prst="rect">
            <a:avLst/>
          </a:prstGeom>
          <a:ln w="0">
            <a:noFill/>
          </a:ln>
        </p:spPr>
      </p:pic>
      <p:pic>
        <p:nvPicPr>
          <p:cNvPr id="1038" name="" descr=""/>
          <p:cNvPicPr/>
          <p:nvPr/>
        </p:nvPicPr>
        <p:blipFill>
          <a:blip r:embed="rId6"/>
          <a:stretch/>
        </p:blipFill>
        <p:spPr>
          <a:xfrm>
            <a:off x="152280" y="3733920"/>
            <a:ext cx="18288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Полисахариды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66e5c"/>
                </a:solidFill>
                <a:latin typeface="Arial"/>
                <a:ea typeface="Times New Roman"/>
              </a:rPr>
              <a:t>СЛОЖНЫЕ  УГЛЕВОДЫ</a:t>
            </a:r>
            <a:r>
              <a:rPr b="1" lang="en-US" sz="4800" spc="-1" strike="noStrike">
                <a:solidFill>
                  <a:srgbClr val="c66e5c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295280" y="28195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хмал (3000 и &gt; мол.  гл.)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95280" y="35812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оген (жив.  крахмал)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066680" y="426708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чатка(неперевариваемая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й)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4" name="" descr=""/>
          <p:cNvPicPr/>
          <p:nvPr/>
        </p:nvPicPr>
        <p:blipFill>
          <a:blip r:embed="rId1"/>
          <a:stretch/>
        </p:blipFill>
        <p:spPr>
          <a:xfrm>
            <a:off x="228600" y="457200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1045" name="" descr=""/>
          <p:cNvPicPr/>
          <p:nvPr/>
        </p:nvPicPr>
        <p:blipFill>
          <a:blip r:embed="rId2"/>
          <a:stretch/>
        </p:blipFill>
        <p:spPr>
          <a:xfrm>
            <a:off x="8001000" y="342900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1046" name="" descr=""/>
          <p:cNvPicPr/>
          <p:nvPr/>
        </p:nvPicPr>
        <p:blipFill>
          <a:blip r:embed="rId3"/>
          <a:stretch/>
        </p:blipFill>
        <p:spPr>
          <a:xfrm>
            <a:off x="8001000" y="457200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1047" name="" descr=""/>
          <p:cNvPicPr/>
          <p:nvPr/>
        </p:nvPicPr>
        <p:blipFill>
          <a:blip r:embed="rId4"/>
          <a:stretch/>
        </p:blipFill>
        <p:spPr>
          <a:xfrm>
            <a:off x="7238880" y="5638680"/>
            <a:ext cx="804960" cy="83844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/>
          <p:cNvPicPr/>
          <p:nvPr/>
        </p:nvPicPr>
        <p:blipFill>
          <a:blip r:embed="rId5"/>
          <a:stretch/>
        </p:blipFill>
        <p:spPr>
          <a:xfrm>
            <a:off x="6248520" y="5638680"/>
            <a:ext cx="804600" cy="838440"/>
          </a:xfrm>
          <a:prstGeom prst="rect">
            <a:avLst/>
          </a:prstGeom>
          <a:ln w="0">
            <a:noFill/>
          </a:ln>
        </p:spPr>
      </p:pic>
      <p:pic>
        <p:nvPicPr>
          <p:cNvPr id="1049" name="" descr=""/>
          <p:cNvPicPr/>
          <p:nvPr/>
        </p:nvPicPr>
        <p:blipFill>
          <a:blip r:embed="rId6"/>
          <a:stretch/>
        </p:blipFill>
        <p:spPr>
          <a:xfrm>
            <a:off x="5257800" y="5638680"/>
            <a:ext cx="804960" cy="838440"/>
          </a:xfrm>
          <a:prstGeom prst="rect">
            <a:avLst/>
          </a:prstGeom>
          <a:ln w="0">
            <a:noFill/>
          </a:ln>
        </p:spPr>
      </p:pic>
      <p:pic>
        <p:nvPicPr>
          <p:cNvPr id="1050" name="" descr=""/>
          <p:cNvPicPr/>
          <p:nvPr/>
        </p:nvPicPr>
        <p:blipFill>
          <a:blip r:embed="rId7"/>
          <a:stretch/>
        </p:blipFill>
        <p:spPr>
          <a:xfrm>
            <a:off x="4267080" y="571500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1051" name="" descr=""/>
          <p:cNvPicPr/>
          <p:nvPr/>
        </p:nvPicPr>
        <p:blipFill>
          <a:blip r:embed="rId8"/>
          <a:stretch/>
        </p:blipFill>
        <p:spPr>
          <a:xfrm>
            <a:off x="3124080" y="571500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1052" name="" descr=""/>
          <p:cNvPicPr/>
          <p:nvPr/>
        </p:nvPicPr>
        <p:blipFill>
          <a:blip r:embed="rId9"/>
          <a:stretch/>
        </p:blipFill>
        <p:spPr>
          <a:xfrm>
            <a:off x="2133720" y="5715000"/>
            <a:ext cx="804600" cy="838080"/>
          </a:xfrm>
          <a:prstGeom prst="rect">
            <a:avLst/>
          </a:prstGeom>
          <a:ln w="0">
            <a:noFill/>
          </a:ln>
        </p:spPr>
      </p:pic>
      <p:pic>
        <p:nvPicPr>
          <p:cNvPr id="1053" name="" descr=""/>
          <p:cNvPicPr/>
          <p:nvPr/>
        </p:nvPicPr>
        <p:blipFill>
          <a:blip r:embed="rId10"/>
          <a:stretch/>
        </p:blipFill>
        <p:spPr>
          <a:xfrm>
            <a:off x="1143000" y="5638680"/>
            <a:ext cx="804960" cy="838440"/>
          </a:xfrm>
          <a:prstGeom prst="rect">
            <a:avLst/>
          </a:prstGeom>
          <a:ln w="0">
            <a:noFill/>
          </a:ln>
        </p:spPr>
      </p:pic>
      <p:pic>
        <p:nvPicPr>
          <p:cNvPr id="1054" name="" descr=""/>
          <p:cNvPicPr/>
          <p:nvPr/>
        </p:nvPicPr>
        <p:blipFill>
          <a:blip r:embed="rId11"/>
          <a:stretch/>
        </p:blipFill>
        <p:spPr>
          <a:xfrm>
            <a:off x="228600" y="342900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1055" name="" descr=""/>
          <p:cNvPicPr/>
          <p:nvPr/>
        </p:nvPicPr>
        <p:blipFill>
          <a:blip r:embed="rId12"/>
          <a:stretch/>
        </p:blipFill>
        <p:spPr>
          <a:xfrm>
            <a:off x="7924680" y="23623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1056" name="" descr=""/>
          <p:cNvPicPr/>
          <p:nvPr/>
        </p:nvPicPr>
        <p:blipFill>
          <a:blip r:embed="rId13"/>
          <a:stretch/>
        </p:blipFill>
        <p:spPr>
          <a:xfrm>
            <a:off x="228600" y="2362320"/>
            <a:ext cx="8049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594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РОТ – слюнные  железы  выделяют  водянистую  жидкость  для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увлажнения пищи. Слюнной  фермент  </a:t>
            </a:r>
            <a:r>
              <a:rPr b="1" i="1" lang="ru-RU" sz="3200" spc="-1" strike="noStrike">
                <a:solidFill>
                  <a:srgbClr val="ffff00"/>
                </a:solidFill>
                <a:latin typeface="Verdana"/>
                <a:ea typeface="Times New Roman"/>
              </a:rPr>
              <a:t>амилаза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начинает расщепление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6e5c"/>
                </a:solidFill>
                <a:latin typeface="Arial"/>
                <a:ea typeface="Times New Roman"/>
              </a:rPr>
              <a:t>ПИЩЕВАРЕНИЕ  УГЛЕВОДОВ</a:t>
            </a:r>
            <a:r>
              <a:rPr b="1" lang="en-US" sz="4400" spc="-1" strike="noStrike">
                <a:solidFill>
                  <a:srgbClr val="c66e5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0" y="5410080"/>
            <a:ext cx="9144000" cy="18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хмал         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милаза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ые полисахар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то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981080" y="5867280"/>
            <a:ext cx="3200400" cy="0"/>
          </a:xfrm>
          <a:prstGeom prst="line">
            <a:avLst/>
          </a:prstGeom>
          <a:ln w="38160">
            <a:solidFill>
              <a:srgbClr val="c66e5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1" name="" descr=""/>
          <p:cNvPicPr/>
          <p:nvPr/>
        </p:nvPicPr>
        <p:blipFill>
          <a:blip r:embed="rId1"/>
          <a:stretch/>
        </p:blipFill>
        <p:spPr>
          <a:xfrm>
            <a:off x="4952880" y="1978200"/>
            <a:ext cx="464832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500"/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500"/>
                                        <p:tgtEl>
                                          <p:spTgt spid="1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0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2522520"/>
            <a:ext cx="8229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ЖЕЛУДОК – кислота  нейтрализует  </a:t>
            </a:r>
            <a:r>
              <a:rPr b="1" i="1" lang="en-US" sz="3200" spc="-1" strike="noStrike">
                <a:solidFill>
                  <a:srgbClr val="ffff00"/>
                </a:solidFill>
                <a:latin typeface="Verdana"/>
                <a:ea typeface="Times New Roman"/>
              </a:rPr>
              <a:t>амилазу,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замедляя  расщепление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угл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еводо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6e5c"/>
                </a:solidFill>
                <a:latin typeface="Arial"/>
                <a:ea typeface="Times New Roman"/>
              </a:rPr>
              <a:t>ПИЩЕВАРЕНИЕ  УГЛЕВОДОВ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867280" y="5334120"/>
            <a:ext cx="762120" cy="60948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5943240" y="5257800"/>
            <a:ext cx="609480" cy="76212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6e5c"/>
                </a:solidFill>
                <a:latin typeface="Arial"/>
                <a:ea typeface="Times New Roman"/>
              </a:rPr>
              <a:t>ПИЩЕВАРЕНИЕ  УГЛЕВОДОВ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40540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ТОНКИЙ КИШЕЧНИК поджелудочная  желез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выделяет 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амилазу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поступаю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ую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в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кишечник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через  прото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68" name="" descr=""/>
          <p:cNvPicPr/>
          <p:nvPr/>
        </p:nvPicPr>
        <p:blipFill>
          <a:blip r:embed="rId1"/>
          <a:stretch/>
        </p:blipFill>
        <p:spPr>
          <a:xfrm>
            <a:off x="6172200" y="2666880"/>
            <a:ext cx="2709720" cy="1737000"/>
          </a:xfrm>
          <a:prstGeom prst="rect">
            <a:avLst/>
          </a:prstGeom>
          <a:ln w="0">
            <a:noFill/>
          </a:ln>
        </p:spPr>
      </p:pic>
      <p:sp>
        <p:nvSpPr>
          <p:cNvPr id="1069" name=""/>
          <p:cNvSpPr/>
          <p:nvPr/>
        </p:nvSpPr>
        <p:spPr>
          <a:xfrm>
            <a:off x="-380880" y="4662360"/>
            <a:ext cx="88390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хмал       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ж. амилаз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малые  полисаха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ахара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743200" y="5181480"/>
            <a:ext cx="4343400" cy="0"/>
          </a:xfrm>
          <a:prstGeom prst="line">
            <a:avLst/>
          </a:prstGeom>
          <a:ln w="38160">
            <a:solidFill>
              <a:srgbClr val="c66e5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щеварение белка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т – пищеварение не происходит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…                      …                                 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743200" y="4876920"/>
            <a:ext cx="15228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895480" y="4952880"/>
            <a:ext cx="53352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429000" y="48769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343400" y="4648320"/>
            <a:ext cx="38088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809880" y="4876920"/>
            <a:ext cx="53352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724280" y="4876920"/>
            <a:ext cx="53352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257800" y="48769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638680" y="4952880"/>
            <a:ext cx="53352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6e5c"/>
                </a:solidFill>
                <a:latin typeface="Arial"/>
                <a:ea typeface="Times New Roman"/>
              </a:rPr>
              <a:t>ПИЩЕВАРЕНИЕ  УГЛЕВОДОВ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ТОНКИЙ КИШЕЧНИК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i="1" lang="ru-RU" sz="3600" spc="-1" strike="noStrike">
                <a:solidFill>
                  <a:srgbClr val="4e7050"/>
                </a:solidFill>
                <a:latin typeface="Verdana"/>
              </a:rPr>
              <a:t>ферменты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 с  поверхности  клеток  тонкого кишечника  расщепляют дисахариды в  моносахар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73" name="" descr=""/>
          <p:cNvPicPr/>
          <p:nvPr/>
        </p:nvPicPr>
        <p:blipFill>
          <a:blip r:embed="rId1"/>
          <a:stretch/>
        </p:blipFill>
        <p:spPr>
          <a:xfrm>
            <a:off x="5410080" y="2100240"/>
            <a:ext cx="381024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5" dur="500"/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6e5c"/>
                </a:solidFill>
                <a:latin typeface="Arial"/>
                <a:ea typeface="Times New Roman"/>
              </a:rPr>
              <a:t>ПИЩЕВАРЕНИЕ  УГЛЕВОДОВ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76" name="" descr=""/>
          <p:cNvPicPr/>
          <p:nvPr/>
        </p:nvPicPr>
        <p:blipFill>
          <a:blip r:embed="rId1"/>
          <a:stretch/>
        </p:blipFill>
        <p:spPr>
          <a:xfrm>
            <a:off x="6083280" y="2666880"/>
            <a:ext cx="3060720" cy="3113280"/>
          </a:xfrm>
          <a:prstGeom prst="rect">
            <a:avLst/>
          </a:prstGeom>
          <a:ln w="0">
            <a:noFill/>
          </a:ln>
        </p:spPr>
      </p:pic>
      <p:sp>
        <p:nvSpPr>
          <p:cNvPr id="1077" name=""/>
          <p:cNvSpPr/>
          <p:nvPr/>
        </p:nvSpPr>
        <p:spPr>
          <a:xfrm>
            <a:off x="1981080" y="5334120"/>
            <a:ext cx="1981440" cy="0"/>
          </a:xfrm>
          <a:prstGeom prst="line">
            <a:avLst/>
          </a:prstGeom>
          <a:ln w="28440">
            <a:solidFill>
              <a:srgbClr val="c66e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04920" y="2484360"/>
            <a:ext cx="1059156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тоза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таз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глюко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0" y="3178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-380880" y="3641760"/>
            <a:ext cx="8991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хароза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хараз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глюко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укто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-990720" y="48769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тоза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таз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глюко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акто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981080" y="4114800"/>
            <a:ext cx="2210040" cy="0"/>
          </a:xfrm>
          <a:prstGeom prst="line">
            <a:avLst/>
          </a:prstGeom>
          <a:ln w="28440">
            <a:solidFill>
              <a:srgbClr val="c66e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981080" y="2971800"/>
            <a:ext cx="2286000" cy="0"/>
          </a:xfrm>
          <a:prstGeom prst="line">
            <a:avLst/>
          </a:prstGeom>
          <a:ln w="28440">
            <a:solidFill>
              <a:srgbClr val="c66e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66e5c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5562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Клетки  тонкого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кишечника  всасывают  моносахариды.  Они  направляются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к печени, которая  перестраивает  их  в  другие  соединения,  чаще  всего  в  глюкоз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6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6e5c"/>
                </a:solidFill>
                <a:latin typeface="Times New Roman"/>
                <a:ea typeface="Times New Roman"/>
              </a:rPr>
              <a:t>ПИЩЕВАРЕНИЕ  УГЛЕВОД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7" name="" descr=""/>
          <p:cNvPicPr/>
          <p:nvPr/>
        </p:nvPicPr>
        <p:blipFill>
          <a:blip r:embed="rId1"/>
          <a:stretch/>
        </p:blipFill>
        <p:spPr>
          <a:xfrm>
            <a:off x="5708520" y="2220840"/>
            <a:ext cx="3435480" cy="3494160"/>
          </a:xfrm>
          <a:prstGeom prst="rect">
            <a:avLst/>
          </a:prstGeom>
          <a:ln w="0">
            <a:noFill/>
          </a:ln>
        </p:spPr>
      </p:pic>
      <p:sp>
        <p:nvSpPr>
          <p:cNvPr id="1088" name=""/>
          <p:cNvSpPr/>
          <p:nvPr/>
        </p:nvSpPr>
        <p:spPr>
          <a:xfrm flipH="1" flipV="1">
            <a:off x="7009920" y="3047760"/>
            <a:ext cx="38124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8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66e5c"/>
                </a:solidFill>
                <a:latin typeface="Arial"/>
                <a:ea typeface="Times New Roman"/>
              </a:rPr>
              <a:t>ГЛЮКОЗА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960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ГЛЮКОЗА из крови поступает в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 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клетки (используется  для  энергии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 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скелетные  мышцы (для  энергии,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откладывается  в  виде  гликогена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 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печень (откладывается  в  виде  гликогена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 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жировая  ткань (откладывается  в  виде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жира)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91" name="" descr=""/>
          <p:cNvPicPr/>
          <p:nvPr/>
        </p:nvPicPr>
        <p:blipFill>
          <a:blip r:embed="rId1"/>
          <a:stretch/>
        </p:blipFill>
        <p:spPr>
          <a:xfrm>
            <a:off x="1676520" y="5473800"/>
            <a:ext cx="152388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66e5c"/>
                </a:solidFill>
                <a:latin typeface="Arial"/>
              </a:rPr>
              <a:t>Функции инсулина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graphicFrame>
        <p:nvGraphicFramePr>
          <p:cNvPr id="1093" name=""/>
          <p:cNvGraphicFramePr/>
          <p:nvPr/>
        </p:nvGraphicFramePr>
        <p:xfrm>
          <a:off x="1447920" y="2209680"/>
          <a:ext cx="7010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7010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5" name=""/>
          <p:cNvSpPr/>
          <p:nvPr/>
        </p:nvSpPr>
        <p:spPr>
          <a:xfrm>
            <a:off x="1447920" y="2133720"/>
            <a:ext cx="4724280" cy="380880"/>
          </a:xfrm>
          <a:prstGeom prst="rect">
            <a:avLst/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447920" y="2514600"/>
            <a:ext cx="4343400" cy="380880"/>
          </a:xfrm>
          <a:prstGeom prst="rect">
            <a:avLst/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447920" y="2895480"/>
            <a:ext cx="3581280" cy="381240"/>
          </a:xfrm>
          <a:prstGeom prst="rect">
            <a:avLst/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905120" y="5410080"/>
            <a:ext cx="2666880" cy="381240"/>
          </a:xfrm>
          <a:prstGeom prst="rect">
            <a:avLst/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905120" y="5867280"/>
            <a:ext cx="2666880" cy="381240"/>
          </a:xfrm>
          <a:prstGeom prst="rect">
            <a:avLst/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905120" y="501336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лекулы инсул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979640" y="57340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цепторы инсул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469880" y="2133720"/>
            <a:ext cx="48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сулин проводит в клетки : глюкоз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447920" y="285264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ирные кислоты, аминокислот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403280" y="357336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лий и витамин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438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6e5c"/>
                </a:solidFill>
                <a:latin typeface="Arial"/>
                <a:ea typeface="Times New Roman"/>
              </a:rPr>
              <a:t>МЕХАНИЗМ  СТАБИЛИЗИРОВАНИЯ  ГЛЮКОЗЫ  В  КРОВИ</a:t>
            </a:r>
            <a:r>
              <a:rPr b="1" lang="en-US" sz="4000" spc="-1" strike="noStrike">
                <a:solidFill>
                  <a:srgbClr val="c66e5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  После  приёма  пищи  уровень  глюкозы  в  крови  повышает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  Повышение  уровня  глюкозы  в  крови  стимулируе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поджелудочную  железу  выделить  инсули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3.  Инсулин  способствует  вхождению  глюкозы  в  клетки  и  её отложению  в  печени  и  мышцах; способствует  превращению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избытка  глюкозы  в  жи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7" name="" descr=""/>
          <p:cNvPicPr/>
          <p:nvPr/>
        </p:nvPicPr>
        <p:blipFill>
          <a:blip r:embed="rId1"/>
          <a:stretch/>
        </p:blipFill>
        <p:spPr>
          <a:xfrm>
            <a:off x="7696080" y="2773440"/>
            <a:ext cx="120168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6e5c"/>
                </a:solidFill>
                <a:latin typeface="Arial"/>
                <a:ea typeface="Times New Roman"/>
              </a:rPr>
              <a:t>МЕХАНИЗМ  СТАБИЛИЗИРОВАНИЯ  ГЛЮКОЗЫ  В  КРОВИ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4. Уровень  глюкозы  начинает  снижатьс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5. Снижение  уровня  глюкозы  стимулирует  поджелудочную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железу  выделить  глюкаго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6. Глюкагон  стимулирует  печень, которая, расщепляя  гликоге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высвобождает  глюкозу  в  кров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7.  Уровень глюкозы  в  крови  начинает  повышатьс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0" name="" descr=""/>
          <p:cNvPicPr/>
          <p:nvPr/>
        </p:nvPicPr>
        <p:blipFill>
          <a:blip r:embed="rId1"/>
          <a:stretch/>
        </p:blipFill>
        <p:spPr>
          <a:xfrm>
            <a:off x="7620120" y="3124080"/>
            <a:ext cx="120168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лудок – начало пищевар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желудочные фермен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  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здесь процесс пищеварения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ерживается, то начинается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цесс брожения. Некоторые продукты брожения токсич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щеварение белк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514600" y="3733920"/>
            <a:ext cx="15228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666880" y="3809880"/>
            <a:ext cx="53352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37339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81280" y="3733920"/>
            <a:ext cx="53352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105520" y="3505320"/>
            <a:ext cx="38088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86400" y="3733920"/>
            <a:ext cx="53352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019920" y="37339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400800" y="3809880"/>
            <a:ext cx="53352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572000" y="2666880"/>
            <a:ext cx="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щеварение белк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Тонкий кишечни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поджелудочные фермен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кишечные ферменты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ьшие молекулы белка расщеплены до уровня аминокислот. Отдельные аминокислоты всасываются в кровото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048120" y="2057400"/>
            <a:ext cx="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209680" y="2819520"/>
            <a:ext cx="15264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362320" y="2819520"/>
            <a:ext cx="53316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00400" y="274320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581280" y="2743200"/>
            <a:ext cx="53352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800600" y="2514600"/>
            <a:ext cx="38088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181480" y="2743200"/>
            <a:ext cx="53352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019920" y="27432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400800" y="2819520"/>
            <a:ext cx="53352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867280" y="2057400"/>
            <a:ext cx="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209680" y="3886200"/>
            <a:ext cx="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581280" y="3886200"/>
            <a:ext cx="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952880" y="3886200"/>
            <a:ext cx="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400800" y="3886200"/>
            <a:ext cx="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905120" y="4724280"/>
            <a:ext cx="1522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362320" y="4724280"/>
            <a:ext cx="53316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124080" y="464832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733920" y="4648320"/>
            <a:ext cx="53316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495680" y="4419720"/>
            <a:ext cx="38124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105520" y="4648320"/>
            <a:ext cx="53316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867280" y="464832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553080" y="4724280"/>
            <a:ext cx="53352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62120" y="3505320"/>
            <a:ext cx="8001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БЕЛО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ребность в белке зависит о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Телосло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озра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корость рос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Беремен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орм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ачество белк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80988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9T18:32:09Z</dcterms:created>
  <dc:creator>Our Home</dc:creator>
  <dc:description/>
  <dc:language>en-US</dc:language>
  <cp:lastModifiedBy>home</cp:lastModifiedBy>
  <dcterms:modified xsi:type="dcterms:W3CDTF">2010-01-04T14:03:10Z</dcterms:modified>
  <cp:revision>24</cp:revision>
  <dc:subject/>
  <dc:title>БЕЛОК</dc:title>
</cp:coreProperties>
</file>